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2725-5324-4673-84BC-3C0CC690D7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can be used also to enhance language learn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owed-down speech is more understandable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ime required to learn becomes short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D85F-E4F8-40BB-94F7-25C472FF03D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527E-1018-4416-B63F-17B8939E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A8C7-6351-4885-B58F-90C1668D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6B5D-7D43-4AF5-8962-B64DD70E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C81B-371F-4F78-BDA2-F3293F7A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613B-4D69-4419-949A-13E9363D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0BD4-E6FD-41E7-B760-F8AEEB62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39F4-A8C9-437A-A8FC-27D9E1B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9F6A-435B-4D28-866A-7234B302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C211-E9D4-431C-AC3D-C2FFA50C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327F-8494-4082-B972-E99AC99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C58E-ECFD-444A-B9B6-1F89236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95E6-B67F-40D0-89AE-4EF7B0F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7058-4B15-41DE-A570-DE749DD10559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4" descr="IMG_7417.jpg"/>
          <p:cNvPicPr/>
          <p:nvPr/>
        </p:nvPicPr>
        <p:blipFill>
          <a:blip r:embed="rId1"/>
          <a:stretch/>
        </p:blipFill>
        <p:spPr>
          <a:xfrm>
            <a:off x="249120" y="1122480"/>
            <a:ext cx="5554800" cy="3705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"/>
          <p:cNvPicPr/>
          <p:nvPr/>
        </p:nvPicPr>
        <p:blipFill>
          <a:blip r:embed="rId2"/>
          <a:stretch/>
        </p:blipFill>
        <p:spPr>
          <a:xfrm>
            <a:off x="4638600" y="3882960"/>
            <a:ext cx="4292640" cy="177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Auditory-visual attention stimulator 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Objaśnienie liniowe 3 8"/>
          <p:cNvSpPr/>
          <p:nvPr/>
        </p:nvSpPr>
        <p:spPr>
          <a:xfrm>
            <a:off x="6875640" y="5877000"/>
            <a:ext cx="1944360" cy="74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523" y="4000"/>
                </a:moveTo>
                <a:lnTo>
                  <a:pt x="-3600" y="4000"/>
                </a:lnTo>
                <a:lnTo>
                  <a:pt x="-3463" y="-10978"/>
                </a:lnTo>
                <a:lnTo>
                  <a:pt x="15333" y="-44512"/>
                </a:lnTo>
              </a:path>
            </a:pathLst>
          </a:custGeom>
          <a:solidFill>
            <a:srgbClr val="ffffff"/>
          </a:solidFill>
          <a:ln w="5724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with eye-tracking feed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4797000"/>
            <a:ext cx="432108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 algn="just"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ain idea is to perform a parallel stimulation of the sight and hearing senses using digital signal processing techniq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 algn="just"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 algn="just"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ification of the visual and hearing stimuli is performed in order to relate perception by the appropriate hemisp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Łącznik prosty 10"/>
          <p:cNvSpPr/>
          <p:nvPr/>
        </p:nvSpPr>
        <p:spPr>
          <a:xfrm>
            <a:off x="5076720" y="1484280"/>
            <a:ext cx="1150920" cy="504720"/>
          </a:xfrm>
          <a:prstGeom prst="line">
            <a:avLst/>
          </a:prstGeom>
          <a:ln w="38160">
            <a:solidFill>
              <a:srgbClr val="ff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Łącznik prosty 15"/>
          <p:cNvSpPr/>
          <p:nvPr/>
        </p:nvSpPr>
        <p:spPr>
          <a:xfrm flipV="1">
            <a:off x="4932360" y="1988640"/>
            <a:ext cx="1295280" cy="1584360"/>
          </a:xfrm>
          <a:prstGeom prst="line">
            <a:avLst/>
          </a:prstGeom>
          <a:ln w="38160">
            <a:solidFill>
              <a:srgbClr val="ff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Łącznik prosty 17"/>
          <p:cNvSpPr/>
          <p:nvPr/>
        </p:nvSpPr>
        <p:spPr>
          <a:xfrm>
            <a:off x="2771640" y="1628640"/>
            <a:ext cx="3456000" cy="360360"/>
          </a:xfrm>
          <a:prstGeom prst="line">
            <a:avLst/>
          </a:prstGeom>
          <a:ln w="12600">
            <a:solidFill>
              <a:srgbClr val="ff8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Łącznik prosty 19"/>
          <p:cNvSpPr/>
          <p:nvPr/>
        </p:nvSpPr>
        <p:spPr>
          <a:xfrm flipV="1">
            <a:off x="2700360" y="1988640"/>
            <a:ext cx="3527280" cy="1295640"/>
          </a:xfrm>
          <a:prstGeom prst="line">
            <a:avLst/>
          </a:prstGeom>
          <a:ln w="12600">
            <a:solidFill>
              <a:srgbClr val="ff8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bjaśnienie liniowe 1 20"/>
          <p:cNvSpPr/>
          <p:nvPr/>
        </p:nvSpPr>
        <p:spPr>
          <a:xfrm>
            <a:off x="6372360" y="1844640"/>
            <a:ext cx="1958760" cy="720720"/>
          </a:xfrm>
          <a:prstGeom prst="borderCallout1">
            <a:avLst>
              <a:gd name="adj1" fmla="val 18750"/>
              <a:gd name="adj2" fmla="val -8333"/>
              <a:gd name="adj3" fmla="val 20754"/>
              <a:gd name="adj4" fmla="val -8171"/>
            </a:avLst>
          </a:prstGeom>
          <a:solidFill>
            <a:srgbClr val="ffffff"/>
          </a:solidFill>
          <a:ln w="57240">
            <a:solidFill>
              <a:srgbClr val="ff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-track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 L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bjaśnienie liniowe 3 48"/>
          <p:cNvSpPr/>
          <p:nvPr/>
        </p:nvSpPr>
        <p:spPr>
          <a:xfrm>
            <a:off x="6372360" y="2852640"/>
            <a:ext cx="1944720" cy="74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37" y="13884"/>
                </a:moveTo>
                <a:lnTo>
                  <a:pt x="-3757" y="13884"/>
                </a:lnTo>
                <a:lnTo>
                  <a:pt x="-3620" y="25899"/>
                </a:lnTo>
                <a:lnTo>
                  <a:pt x="-25271" y="28013"/>
                </a:lnTo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-track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Owal 2063"/>
          <p:cNvGrpSpPr/>
          <p:nvPr/>
        </p:nvGrpSpPr>
        <p:grpSpPr>
          <a:xfrm>
            <a:off x="3114720" y="3303720"/>
            <a:ext cx="1030320" cy="976320"/>
            <a:chOff x="3114720" y="3303720"/>
            <a:chExt cx="1030320" cy="976320"/>
          </a:xfrm>
        </p:grpSpPr>
        <p:pic>
          <p:nvPicPr>
            <p:cNvPr id="62" name="Owal 2063" descr=""/>
            <p:cNvPicPr/>
            <p:nvPr/>
          </p:nvPicPr>
          <p:blipFill>
            <a:blip r:embed="rId3"/>
            <a:stretch/>
          </p:blipFill>
          <p:spPr>
            <a:xfrm>
              <a:off x="3114720" y="3303720"/>
              <a:ext cx="1030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328920" y="3467160"/>
              <a:ext cx="6015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20:00:41Z</dcterms:created>
  <dc:creator>Łukasz Kosikowski</dc:creator>
  <dc:description/>
  <cp:keywords/>
  <dc:language>en-US</dc:language>
  <cp:lastModifiedBy>Łukasz Kosikowski</cp:lastModifiedBy>
  <dcterms:modified xsi:type="dcterms:W3CDTF">2013-09-13T10:40:36Z</dcterms:modified>
  <cp:revision>12</cp:revision>
  <dc:subject/>
  <dc:title>Auditory-visual attention stimulator</dc:title>
</cp:coreProperties>
</file>