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5124113" cy="19804063"/>
  <p:notesSz cx="6664325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994E-0255-4FA2-9E7D-E191B55CF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5280" y="793800"/>
            <a:ext cx="13611240" cy="3300480"/>
          </a:xfrm>
          <a:prstGeom prst="rect">
            <a:avLst/>
          </a:prstGeom>
          <a:noFill/>
          <a:ln w="0">
            <a:noFill/>
          </a:ln>
        </p:spPr>
        <p:txBody>
          <a:bodyPr lIns="199440" rIns="199440" tIns="99720" bIns="99720" anchor="ctr">
            <a:noAutofit/>
          </a:bodyPr>
          <a:p>
            <a:pPr indent="0" algn="ctr">
              <a:buNone/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5280" y="4620960"/>
            <a:ext cx="13611240" cy="6233400"/>
          </a:xfrm>
          <a:prstGeom prst="rect">
            <a:avLst/>
          </a:prstGeom>
          <a:noFill/>
          <a:ln w="0">
            <a:noFill/>
          </a:ln>
        </p:spPr>
        <p:txBody>
          <a:bodyPr lIns="199440" rIns="199440" tIns="99720" bIns="9972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5280" y="11446920"/>
            <a:ext cx="13611240" cy="6233400"/>
          </a:xfrm>
          <a:prstGeom prst="rect">
            <a:avLst/>
          </a:prstGeom>
          <a:noFill/>
          <a:ln w="0">
            <a:noFill/>
          </a:ln>
        </p:spPr>
        <p:txBody>
          <a:bodyPr lIns="199440" rIns="199440" tIns="99720" bIns="9972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95A2-F464-476A-A684-AC3363812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5280" y="793800"/>
            <a:ext cx="13611240" cy="3300480"/>
          </a:xfrm>
          <a:prstGeom prst="rect">
            <a:avLst/>
          </a:prstGeom>
          <a:noFill/>
          <a:ln w="0">
            <a:noFill/>
          </a:ln>
        </p:spPr>
        <p:txBody>
          <a:bodyPr lIns="199440" rIns="199440" tIns="99720" bIns="99720" anchor="ctr">
            <a:noAutofit/>
          </a:bodyPr>
          <a:p>
            <a:pPr indent="0" algn="ctr">
              <a:buNone/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5280" y="4620960"/>
            <a:ext cx="6642000" cy="6233400"/>
          </a:xfrm>
          <a:prstGeom prst="rect">
            <a:avLst/>
          </a:prstGeom>
          <a:noFill/>
          <a:ln w="0">
            <a:noFill/>
          </a:ln>
        </p:spPr>
        <p:txBody>
          <a:bodyPr lIns="199440" rIns="199440" tIns="99720" bIns="9972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729920" y="4620960"/>
            <a:ext cx="6642000" cy="6233400"/>
          </a:xfrm>
          <a:prstGeom prst="rect">
            <a:avLst/>
          </a:prstGeom>
          <a:noFill/>
          <a:ln w="0">
            <a:noFill/>
          </a:ln>
        </p:spPr>
        <p:txBody>
          <a:bodyPr lIns="199440" rIns="199440" tIns="99720" bIns="9972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5280" y="11446920"/>
            <a:ext cx="6642000" cy="6233400"/>
          </a:xfrm>
          <a:prstGeom prst="rect">
            <a:avLst/>
          </a:prstGeom>
          <a:noFill/>
          <a:ln w="0">
            <a:noFill/>
          </a:ln>
        </p:spPr>
        <p:txBody>
          <a:bodyPr lIns="199440" rIns="199440" tIns="99720" bIns="9972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729920" y="11446920"/>
            <a:ext cx="6642000" cy="6233400"/>
          </a:xfrm>
          <a:prstGeom prst="rect">
            <a:avLst/>
          </a:prstGeom>
          <a:noFill/>
          <a:ln w="0">
            <a:noFill/>
          </a:ln>
        </p:spPr>
        <p:txBody>
          <a:bodyPr lIns="199440" rIns="199440" tIns="99720" bIns="9972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4D17-08AF-4F4F-9931-3B3C1564A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5280" y="793800"/>
            <a:ext cx="13611240" cy="3300480"/>
          </a:xfrm>
          <a:prstGeom prst="rect">
            <a:avLst/>
          </a:prstGeom>
          <a:noFill/>
          <a:ln w="0">
            <a:noFill/>
          </a:ln>
        </p:spPr>
        <p:txBody>
          <a:bodyPr lIns="199440" rIns="199440" tIns="99720" bIns="99720" anchor="ctr">
            <a:noAutofit/>
          </a:bodyPr>
          <a:p>
            <a:pPr indent="0" algn="ctr">
              <a:buNone/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5280" y="4620960"/>
            <a:ext cx="4382640" cy="6233400"/>
          </a:xfrm>
          <a:prstGeom prst="rect">
            <a:avLst/>
          </a:prstGeom>
          <a:noFill/>
          <a:ln w="0">
            <a:noFill/>
          </a:ln>
        </p:spPr>
        <p:txBody>
          <a:bodyPr lIns="199440" rIns="199440" tIns="99720" bIns="9972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7520" y="4620960"/>
            <a:ext cx="4382640" cy="6233400"/>
          </a:xfrm>
          <a:prstGeom prst="rect">
            <a:avLst/>
          </a:prstGeom>
          <a:noFill/>
          <a:ln w="0">
            <a:noFill/>
          </a:ln>
        </p:spPr>
        <p:txBody>
          <a:bodyPr lIns="199440" rIns="199440" tIns="99720" bIns="9972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959760" y="4620960"/>
            <a:ext cx="4382640" cy="6233400"/>
          </a:xfrm>
          <a:prstGeom prst="rect">
            <a:avLst/>
          </a:prstGeom>
          <a:noFill/>
          <a:ln w="0">
            <a:noFill/>
          </a:ln>
        </p:spPr>
        <p:txBody>
          <a:bodyPr lIns="199440" rIns="199440" tIns="99720" bIns="9972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5280" y="11446920"/>
            <a:ext cx="4382640" cy="6233400"/>
          </a:xfrm>
          <a:prstGeom prst="rect">
            <a:avLst/>
          </a:prstGeom>
          <a:noFill/>
          <a:ln w="0">
            <a:noFill/>
          </a:ln>
        </p:spPr>
        <p:txBody>
          <a:bodyPr lIns="199440" rIns="199440" tIns="99720" bIns="9972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357520" y="11446920"/>
            <a:ext cx="4382640" cy="6233400"/>
          </a:xfrm>
          <a:prstGeom prst="rect">
            <a:avLst/>
          </a:prstGeom>
          <a:noFill/>
          <a:ln w="0">
            <a:noFill/>
          </a:ln>
        </p:spPr>
        <p:txBody>
          <a:bodyPr lIns="199440" rIns="199440" tIns="99720" bIns="9972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959760" y="11446920"/>
            <a:ext cx="4382640" cy="6233400"/>
          </a:xfrm>
          <a:prstGeom prst="rect">
            <a:avLst/>
          </a:prstGeom>
          <a:noFill/>
          <a:ln w="0">
            <a:noFill/>
          </a:ln>
        </p:spPr>
        <p:txBody>
          <a:bodyPr lIns="199440" rIns="199440" tIns="99720" bIns="9972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B4D6-C9B3-45DB-A382-EB88AE8CA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5280" y="793800"/>
            <a:ext cx="13611240" cy="3300480"/>
          </a:xfrm>
          <a:prstGeom prst="rect">
            <a:avLst/>
          </a:prstGeom>
          <a:noFill/>
          <a:ln w="0">
            <a:noFill/>
          </a:ln>
        </p:spPr>
        <p:txBody>
          <a:bodyPr lIns="199440" rIns="199440" tIns="99720" bIns="99720" anchor="ctr">
            <a:noAutofit/>
          </a:bodyPr>
          <a:p>
            <a:pPr indent="0" algn="ctr">
              <a:buNone/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5280" y="4620960"/>
            <a:ext cx="13611240" cy="130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358F-7C4B-4FB3-BA54-42611321A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280" y="793800"/>
            <a:ext cx="13611240" cy="3300480"/>
          </a:xfrm>
          <a:prstGeom prst="rect">
            <a:avLst/>
          </a:prstGeom>
          <a:noFill/>
          <a:ln w="0">
            <a:noFill/>
          </a:ln>
        </p:spPr>
        <p:txBody>
          <a:bodyPr lIns="199440" rIns="199440" tIns="99720" bIns="99720" anchor="ctr">
            <a:noAutofit/>
          </a:bodyPr>
          <a:p>
            <a:pPr indent="0" algn="ctr">
              <a:buNone/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5280" y="4620960"/>
            <a:ext cx="13611240" cy="13068360"/>
          </a:xfrm>
          <a:prstGeom prst="rect">
            <a:avLst/>
          </a:prstGeom>
          <a:noFill/>
          <a:ln w="0">
            <a:noFill/>
          </a:ln>
        </p:spPr>
        <p:txBody>
          <a:bodyPr lIns="199440" rIns="199440" tIns="99720" bIns="9972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9BB3-FAD0-462C-9BE8-15AFE8A63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280" y="793800"/>
            <a:ext cx="13611240" cy="3300480"/>
          </a:xfrm>
          <a:prstGeom prst="rect">
            <a:avLst/>
          </a:prstGeom>
          <a:noFill/>
          <a:ln w="0">
            <a:noFill/>
          </a:ln>
        </p:spPr>
        <p:txBody>
          <a:bodyPr lIns="199440" rIns="199440" tIns="99720" bIns="99720" anchor="ctr">
            <a:noAutofit/>
          </a:bodyPr>
          <a:p>
            <a:pPr indent="0" algn="ctr">
              <a:buNone/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280" y="4620960"/>
            <a:ext cx="6642000" cy="13068360"/>
          </a:xfrm>
          <a:prstGeom prst="rect">
            <a:avLst/>
          </a:prstGeom>
          <a:noFill/>
          <a:ln w="0">
            <a:noFill/>
          </a:ln>
        </p:spPr>
        <p:txBody>
          <a:bodyPr lIns="199440" rIns="199440" tIns="99720" bIns="9972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729920" y="4620960"/>
            <a:ext cx="6642000" cy="13068360"/>
          </a:xfrm>
          <a:prstGeom prst="rect">
            <a:avLst/>
          </a:prstGeom>
          <a:noFill/>
          <a:ln w="0">
            <a:noFill/>
          </a:ln>
        </p:spPr>
        <p:txBody>
          <a:bodyPr lIns="199440" rIns="199440" tIns="99720" bIns="9972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061E-22C4-4EB0-A785-E755A015F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5280" y="793800"/>
            <a:ext cx="13611240" cy="3300480"/>
          </a:xfrm>
          <a:prstGeom prst="rect">
            <a:avLst/>
          </a:prstGeom>
          <a:noFill/>
          <a:ln w="0">
            <a:noFill/>
          </a:ln>
        </p:spPr>
        <p:txBody>
          <a:bodyPr lIns="199440" rIns="199440" tIns="99720" bIns="99720" anchor="ctr">
            <a:noAutofit/>
          </a:bodyPr>
          <a:p>
            <a:pPr indent="0" algn="ctr">
              <a:buNone/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29C2-B168-4EFD-9945-92C6325CE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5280" y="793800"/>
            <a:ext cx="13611240" cy="153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AF74-67B2-4FFC-BFF3-1762542DA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280" y="793800"/>
            <a:ext cx="13611240" cy="3300480"/>
          </a:xfrm>
          <a:prstGeom prst="rect">
            <a:avLst/>
          </a:prstGeom>
          <a:noFill/>
          <a:ln w="0">
            <a:noFill/>
          </a:ln>
        </p:spPr>
        <p:txBody>
          <a:bodyPr lIns="199440" rIns="199440" tIns="99720" bIns="99720" anchor="ctr">
            <a:noAutofit/>
          </a:bodyPr>
          <a:p>
            <a:pPr indent="0" algn="ctr">
              <a:buNone/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5280" y="4620960"/>
            <a:ext cx="6642000" cy="6233400"/>
          </a:xfrm>
          <a:prstGeom prst="rect">
            <a:avLst/>
          </a:prstGeom>
          <a:noFill/>
          <a:ln w="0">
            <a:noFill/>
          </a:ln>
        </p:spPr>
        <p:txBody>
          <a:bodyPr lIns="199440" rIns="199440" tIns="99720" bIns="9972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729920" y="4620960"/>
            <a:ext cx="6642000" cy="13068360"/>
          </a:xfrm>
          <a:prstGeom prst="rect">
            <a:avLst/>
          </a:prstGeom>
          <a:noFill/>
          <a:ln w="0">
            <a:noFill/>
          </a:ln>
        </p:spPr>
        <p:txBody>
          <a:bodyPr lIns="199440" rIns="199440" tIns="99720" bIns="9972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5280" y="11446920"/>
            <a:ext cx="6642000" cy="6233400"/>
          </a:xfrm>
          <a:prstGeom prst="rect">
            <a:avLst/>
          </a:prstGeom>
          <a:noFill/>
          <a:ln w="0">
            <a:noFill/>
          </a:ln>
        </p:spPr>
        <p:txBody>
          <a:bodyPr lIns="199440" rIns="199440" tIns="99720" bIns="9972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0DFF-ACBA-491A-8F8B-9872F2740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5280" y="793800"/>
            <a:ext cx="13611240" cy="3300480"/>
          </a:xfrm>
          <a:prstGeom prst="rect">
            <a:avLst/>
          </a:prstGeom>
          <a:noFill/>
          <a:ln w="0">
            <a:noFill/>
          </a:ln>
        </p:spPr>
        <p:txBody>
          <a:bodyPr lIns="199440" rIns="199440" tIns="99720" bIns="99720" anchor="ctr">
            <a:noAutofit/>
          </a:bodyPr>
          <a:p>
            <a:pPr indent="0" algn="ctr">
              <a:buNone/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5280" y="4620960"/>
            <a:ext cx="6642000" cy="13068360"/>
          </a:xfrm>
          <a:prstGeom prst="rect">
            <a:avLst/>
          </a:prstGeom>
          <a:noFill/>
          <a:ln w="0">
            <a:noFill/>
          </a:ln>
        </p:spPr>
        <p:txBody>
          <a:bodyPr lIns="199440" rIns="199440" tIns="99720" bIns="9972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729920" y="4620960"/>
            <a:ext cx="6642000" cy="6233400"/>
          </a:xfrm>
          <a:prstGeom prst="rect">
            <a:avLst/>
          </a:prstGeom>
          <a:noFill/>
          <a:ln w="0">
            <a:noFill/>
          </a:ln>
        </p:spPr>
        <p:txBody>
          <a:bodyPr lIns="199440" rIns="199440" tIns="99720" bIns="9972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729920" y="11446920"/>
            <a:ext cx="6642000" cy="6233400"/>
          </a:xfrm>
          <a:prstGeom prst="rect">
            <a:avLst/>
          </a:prstGeom>
          <a:noFill/>
          <a:ln w="0">
            <a:noFill/>
          </a:ln>
        </p:spPr>
        <p:txBody>
          <a:bodyPr lIns="199440" rIns="199440" tIns="99720" bIns="9972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5CF2-ED59-435A-82E0-6327BA16C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5280" y="793800"/>
            <a:ext cx="13611240" cy="3300480"/>
          </a:xfrm>
          <a:prstGeom prst="rect">
            <a:avLst/>
          </a:prstGeom>
          <a:noFill/>
          <a:ln w="0">
            <a:noFill/>
          </a:ln>
        </p:spPr>
        <p:txBody>
          <a:bodyPr lIns="199440" rIns="199440" tIns="99720" bIns="99720" anchor="ctr">
            <a:noAutofit/>
          </a:bodyPr>
          <a:p>
            <a:pPr indent="0" algn="ctr">
              <a:buNone/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5280" y="4620960"/>
            <a:ext cx="6642000" cy="6233400"/>
          </a:xfrm>
          <a:prstGeom prst="rect">
            <a:avLst/>
          </a:prstGeom>
          <a:noFill/>
          <a:ln w="0">
            <a:noFill/>
          </a:ln>
        </p:spPr>
        <p:txBody>
          <a:bodyPr lIns="199440" rIns="199440" tIns="99720" bIns="9972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729920" y="4620960"/>
            <a:ext cx="6642000" cy="6233400"/>
          </a:xfrm>
          <a:prstGeom prst="rect">
            <a:avLst/>
          </a:prstGeom>
          <a:noFill/>
          <a:ln w="0">
            <a:noFill/>
          </a:ln>
        </p:spPr>
        <p:txBody>
          <a:bodyPr lIns="199440" rIns="199440" tIns="99720" bIns="9972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5280" y="11446920"/>
            <a:ext cx="13611240" cy="6233400"/>
          </a:xfrm>
          <a:prstGeom prst="rect">
            <a:avLst/>
          </a:prstGeom>
          <a:noFill/>
          <a:ln w="0">
            <a:noFill/>
          </a:ln>
        </p:spPr>
        <p:txBody>
          <a:bodyPr lIns="199440" rIns="199440" tIns="99720" bIns="9972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8CB4-8697-4752-B513-89EF5E016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280" y="793800"/>
            <a:ext cx="13611240" cy="3300480"/>
          </a:xfrm>
          <a:prstGeom prst="rect">
            <a:avLst/>
          </a:prstGeom>
          <a:noFill/>
          <a:ln w="0">
            <a:noFill/>
          </a:ln>
        </p:spPr>
        <p:txBody>
          <a:bodyPr lIns="199440" rIns="199440" tIns="99720" bIns="99720" anchor="ctr">
            <a:noAutofit/>
          </a:bodyPr>
          <a:p>
            <a:pPr indent="0" algn="ctr">
              <a:buNone/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5280" y="4620960"/>
            <a:ext cx="13611240" cy="13068360"/>
          </a:xfrm>
          <a:prstGeom prst="rect">
            <a:avLst/>
          </a:prstGeom>
          <a:noFill/>
          <a:ln w="0">
            <a:noFill/>
          </a:ln>
        </p:spPr>
        <p:txBody>
          <a:bodyPr lIns="199440" rIns="199440" tIns="99720" bIns="99720" anchor="t">
            <a:normAutofit/>
          </a:bodyPr>
          <a:p>
            <a:pPr marL="747720" indent="-74772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lvl="1" marL="1620720" indent="-622080"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lvl="2" marL="2494080" indent="-49860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lvl="3" marL="3492360" indent="-498240"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lvl="4" marL="4491000" indent="-500040"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lvl="5" marL="4491000" indent="-500040"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lvl="6" marL="4491000" indent="-500040"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5280" y="18032040"/>
            <a:ext cx="3529080" cy="1376280"/>
          </a:xfrm>
          <a:prstGeom prst="rect">
            <a:avLst/>
          </a:prstGeom>
          <a:noFill/>
          <a:ln w="0">
            <a:noFill/>
          </a:ln>
        </p:spPr>
        <p:txBody>
          <a:bodyPr lIns="199440" rIns="199440" tIns="99720" bIns="99720" anchor="t">
            <a:noAutofit/>
          </a:bodyPr>
          <a:lstStyle>
            <a:lvl1pPr indent="0">
              <a:buNone/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  <a:defRPr b="0" lang="en-US" sz="3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167080" y="18032040"/>
            <a:ext cx="4787640" cy="1376280"/>
          </a:xfrm>
          <a:prstGeom prst="rect">
            <a:avLst/>
          </a:prstGeom>
          <a:noFill/>
          <a:ln w="0">
            <a:noFill/>
          </a:ln>
        </p:spPr>
        <p:txBody>
          <a:bodyPr lIns="199440" rIns="199440" tIns="99720" bIns="99720" anchor="t">
            <a:noAutofit/>
          </a:bodyPr>
          <a:lstStyle>
            <a:lvl1pPr indent="0" algn="ctr">
              <a:buNone/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  <a:defRPr b="0" lang="en-US" sz="3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0837440" y="18032040"/>
            <a:ext cx="3529080" cy="1376280"/>
          </a:xfrm>
          <a:prstGeom prst="rect">
            <a:avLst/>
          </a:prstGeom>
          <a:noFill/>
          <a:ln w="0">
            <a:noFill/>
          </a:ln>
        </p:spPr>
        <p:txBody>
          <a:bodyPr lIns="199440" rIns="199440" tIns="99720" bIns="99720" anchor="t">
            <a:noAutofit/>
          </a:bodyPr>
          <a:lstStyle>
            <a:lvl1pPr indent="0" algn="r">
              <a:buNone/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  <a:defRPr b="0" lang="en-US" sz="3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fld id="{AD16091A-6612-47D1-B520-53F413F73E94}" type="slidenum">
              <a:rPr b="0" lang="en-US" sz="3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hyperlink" Target="mailto:ac@pg.gda.pl" TargetMode="External"/><Relationship Id="rId6" Type="http://schemas.openxmlformats.org/officeDocument/2006/relationships/hyperlink" Target="mailto:ac@pg.gda.pl" TargetMode="External"/><Relationship Id="rId7" Type="http://schemas.openxmlformats.org/officeDocument/2006/relationships/hyperlink" Target="mailto:ac@pg.gda.pl" TargetMode="External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image" Target="../media/image11.wmf"/><Relationship Id="rId16" Type="http://schemas.openxmlformats.org/officeDocument/2006/relationships/image" Target="../media/image12.png"/><Relationship Id="rId17" Type="http://schemas.openxmlformats.org/officeDocument/2006/relationships/image" Target="../media/image13.png"/><Relationship Id="rId1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97880" y="11258640"/>
            <a:ext cx="6975360" cy="788328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99440" rIns="199440" tIns="99720" bIns="99720" anchor="t">
            <a:no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Prepared wow restoration plug-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856640" y="6831000"/>
            <a:ext cx="7010280" cy="3559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555480" y="8804160"/>
          <a:ext cx="6721560" cy="4943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5480" y="8804160"/>
                    <a:ext cx="6721560" cy="49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1960560" y="2817720"/>
            <a:ext cx="5284800" cy="53722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60000" y="3385800"/>
            <a:ext cx="7048440" cy="15889320"/>
          </a:xfrm>
          <a:prstGeom prst="rect">
            <a:avLst/>
          </a:prstGeom>
          <a:noFill/>
          <a:ln w="0">
            <a:noFill/>
          </a:ln>
        </p:spPr>
        <p:txBody>
          <a:bodyPr lIns="199440" rIns="199440" tIns="99720" bIns="99720" anchor="t">
            <a:no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efect orig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o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is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mmon 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difficult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o compensate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type of audio distor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t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uld be fou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parate magnetic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ap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as well as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n th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ptical tap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here the audio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s placed next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o the perfor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e main source of the defect is th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rregular velocit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f the sound carrier.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aus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f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ow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can be found in: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udio path components excentricity or ellipticit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otor speed fluctuation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arrie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damages (loss of perforation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appropriate production techniques (tape cuts &amp; joins).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ESTOSPACE project participant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rom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dansk University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of Technology (PL)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veloped several methods for th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ow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fect restoratio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pectral Content Analysis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o obtain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ow characteristic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the audio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pectrogram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can be analysed. The proposed algorithms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track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chose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pectra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inusoidal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compon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whereby the wow variations are evaluat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tected components form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rajectori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depict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the defect with high accuracy. Based on further statistical post-processing the general wow characteristic is foun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canning for trajectories can be performed in several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pectral-based domain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DFT based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nusoidal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u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nalysi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oothed spectrum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representa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DFT based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pectrum centre of gravit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1190520" y="999720"/>
            <a:ext cx="11103120" cy="1211400"/>
          </a:xfrm>
          <a:prstGeom prst="rect">
            <a:avLst/>
          </a:prstGeom>
          <a:noFill/>
          <a:ln w="0">
            <a:noFill/>
          </a:ln>
        </p:spPr>
        <p:txBody>
          <a:bodyPr lIns="199440" rIns="199440" tIns="99720" bIns="99720" anchor="ctr">
            <a:noAutofit/>
          </a:bodyPr>
          <a:p>
            <a:pPr indent="0" algn="ctr">
              <a:buNone/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r>
              <a:rPr b="1" lang="en-GB" sz="5400" spc="-1" strike="noStrike">
                <a:solidFill>
                  <a:srgbClr val="333399"/>
                </a:solidFill>
                <a:latin typeface="Arial"/>
              </a:rPr>
              <a:t>Wow Restoration in Movie </a:t>
            </a:r>
            <a:br>
              <a:rPr sz="5400"/>
            </a:br>
            <a:r>
              <a:rPr b="1" lang="en-GB" sz="5400" spc="-1" strike="noStrike">
                <a:solidFill>
                  <a:srgbClr val="333399"/>
                </a:solidFill>
                <a:latin typeface="Arial"/>
              </a:rPr>
              <a:t>Soundtracks</a:t>
            </a:r>
            <a:r>
              <a:rPr b="0" lang="en-GB" sz="6000" spc="-1" strike="noStrike">
                <a:solidFill>
                  <a:srgbClr val="333399"/>
                </a:solidFill>
                <a:latin typeface="Arial"/>
              </a:rPr>
              <a:t>  </a:t>
            </a:r>
            <a:br>
              <a:rPr sz="6000"/>
            </a:br>
            <a:r>
              <a:rPr b="0" i="1" lang="pl-PL" sz="2500" spc="-1" strike="noStrike">
                <a:solidFill>
                  <a:srgbClr val="333399"/>
                </a:solidFill>
                <a:latin typeface="Arial"/>
              </a:rPr>
              <a:t>A.</a:t>
            </a:r>
            <a:r>
              <a:rPr b="0" lang="pl-PL" sz="6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en-GB" sz="2500" spc="-1" strike="noStrike">
                <a:solidFill>
                  <a:srgbClr val="333399"/>
                </a:solidFill>
                <a:latin typeface="Arial"/>
              </a:rPr>
              <a:t>Czyzewski, </a:t>
            </a:r>
            <a:r>
              <a:rPr b="0" i="1" lang="pl-PL" sz="2500" spc="-1" strike="noStrike">
                <a:solidFill>
                  <a:srgbClr val="333399"/>
                </a:solidFill>
                <a:latin typeface="Arial"/>
              </a:rPr>
              <a:t>P. Maziewski, M. Dziubinski, A. Ciarkowski, M. Kulesza,     J. Kotus  &amp; B. Kostek   </a:t>
            </a:r>
            <a:r>
              <a:rPr b="0" lang="en-GB" sz="25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ac@pg.</a:t>
            </a:r>
            <a:r>
              <a:rPr b="0" lang="en-GB" sz="25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gda</a:t>
            </a:r>
            <a:r>
              <a:rPr b="0" lang="en-GB" sz="25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.pl</a:t>
            </a:r>
            <a:r>
              <a:rPr b="0" i="1" lang="pl-PL" sz="25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11817360" y="76320"/>
            <a:ext cx="2143080" cy="302580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49" name="" descr=""/>
          <p:cNvPicPr/>
          <p:nvPr/>
        </p:nvPicPr>
        <p:blipFill>
          <a:blip r:embed="rId9"/>
          <a:srcRect l="0" t="13961" r="0" b="7447"/>
          <a:stretch/>
        </p:blipFill>
        <p:spPr>
          <a:xfrm>
            <a:off x="784080" y="3382920"/>
            <a:ext cx="1597320" cy="2292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103800" y="9496440"/>
            <a:ext cx="15122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08760" y="8739360"/>
            <a:ext cx="15122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22880" y="8820000"/>
            <a:ext cx="15122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75360" y="8786880"/>
            <a:ext cx="15122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075360" y="8786880"/>
            <a:ext cx="15122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512640" y="14054040"/>
            <a:ext cx="6877080" cy="5229360"/>
            <a:chOff x="512640" y="14054040"/>
            <a:chExt cx="6877080" cy="5229360"/>
          </a:xfrm>
        </p:grpSpPr>
        <p:pic>
          <p:nvPicPr>
            <p:cNvPr id="56" name="constVSflow-xcorrShapes" descr=""/>
            <p:cNvPicPr/>
            <p:nvPr/>
          </p:nvPicPr>
          <p:blipFill>
            <a:blip r:embed="rId10"/>
            <a:stretch/>
          </p:blipFill>
          <p:spPr>
            <a:xfrm>
              <a:off x="579240" y="14054040"/>
              <a:ext cx="3430800" cy="27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constVSflow-Specgrams" descr=""/>
            <p:cNvPicPr/>
            <p:nvPr/>
          </p:nvPicPr>
          <p:blipFill>
            <a:blip r:embed="rId11"/>
            <a:stretch/>
          </p:blipFill>
          <p:spPr>
            <a:xfrm>
              <a:off x="3932280" y="14154120"/>
              <a:ext cx="3332160" cy="250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constVSflow-xcorr" descr=""/>
            <p:cNvPicPr/>
            <p:nvPr/>
          </p:nvPicPr>
          <p:blipFill>
            <a:blip r:embed="rId12"/>
            <a:stretch/>
          </p:blipFill>
          <p:spPr>
            <a:xfrm>
              <a:off x="512640" y="16863840"/>
              <a:ext cx="3403800" cy="232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wfdf1-specg_pvcSlopes" descr=""/>
            <p:cNvPicPr/>
            <p:nvPr/>
          </p:nvPicPr>
          <p:blipFill>
            <a:blip r:embed="rId13"/>
            <a:stretch/>
          </p:blipFill>
          <p:spPr>
            <a:xfrm>
              <a:off x="4113360" y="16825680"/>
              <a:ext cx="3276360" cy="2457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"/>
          <p:cNvSpPr/>
          <p:nvPr/>
        </p:nvSpPr>
        <p:spPr>
          <a:xfrm>
            <a:off x="457200" y="14017680"/>
            <a:ext cx="6991200" cy="512424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99440" rIns="199440" tIns="99720" bIns="99720" anchor="t">
            <a:no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main Based Metho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input signal is divided into short segments, and each of such segments is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nalyzed in order to determine PVC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Pitch Variation Curve)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PVC change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re tracked in the following w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- Current segment i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uniformly resampled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arious PVC slop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-"/>
              <a:tabLst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correlation sequences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 are calculated for each re</a:t>
            </a:r>
            <a:r>
              <a:rPr b="0" lang="pl-PL" sz="2000" spc="-1" strike="noStrike">
                <a:solidFill>
                  <a:srgbClr val="80808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sampled version of </a:t>
            </a:r>
            <a:r>
              <a:rPr b="0" lang="pl-PL" sz="2000" spc="-1" strike="noStrike">
                <a:solidFill>
                  <a:srgbClr val="808080"/>
                </a:solidFill>
                <a:latin typeface="Arial"/>
              </a:rPr>
              <a:t>a 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current blo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-"/>
              <a:tabLst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ost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regularl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iodic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 resampled version is treated</a:t>
            </a:r>
            <a:r>
              <a:rPr b="0" lang="pl-PL" sz="20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 as  locally constant (in terms of PVC variation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-"/>
              <a:tabLst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Periodicity is indicated by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correlation se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elope properties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-"/>
              <a:tabLst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After calculating local PVCs, </a:t>
            </a:r>
            <a:r>
              <a:rPr b="0" lang="pl-PL" sz="2000" spc="-1" strike="noStrike">
                <a:solidFill>
                  <a:srgbClr val="80808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PVC is recursively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t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 from the </a:t>
            </a:r>
            <a:r>
              <a:rPr b="0" lang="pl-PL" sz="2000" spc="-1" strike="noStrike">
                <a:solidFill>
                  <a:srgbClr val="808080"/>
                </a:solidFill>
                <a:latin typeface="Arial"/>
              </a:rPr>
              <a:t>fragments estimating 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local slop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6280" y="8759880"/>
            <a:ext cx="6972120" cy="503532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8332920" y="3538440"/>
            <a:ext cx="5863680" cy="2995560"/>
            <a:chOff x="8332920" y="3538440"/>
            <a:chExt cx="5863680" cy="2995560"/>
          </a:xfrm>
        </p:grpSpPr>
        <p:pic>
          <p:nvPicPr>
            <p:cNvPr id="63" name="" descr=""/>
            <p:cNvPicPr/>
            <p:nvPr/>
          </p:nvPicPr>
          <p:blipFill>
            <a:blip r:embed="rId14"/>
            <a:stretch/>
          </p:blipFill>
          <p:spPr>
            <a:xfrm>
              <a:off x="8332920" y="3538440"/>
              <a:ext cx="358092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15">
              <a:lum bright="84000"/>
            </a:blip>
            <a:srcRect l="6602" t="0" r="0" b="0"/>
            <a:stretch/>
          </p:blipFill>
          <p:spPr>
            <a:xfrm>
              <a:off x="10733040" y="4323960"/>
              <a:ext cx="3463560" cy="221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7751880" y="3214800"/>
            <a:ext cx="6956280" cy="791532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99440" rIns="199440" tIns="99720" bIns="99720" anchor="t">
            <a:no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Carrie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eature 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wer-line hum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commonly found in archival recordings. Based on the assumption that it was introduced into audio path during the recording phase and was subject to the same wow distortion a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useful signal, it is possible to estimate the depth of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w effect through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king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f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um frequenc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e to relatively low frequency of hum it is practically impossible to analyze it with satisfactory time/frequency resolution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employ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raditional DFT methods. Therefore a method based 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oregressive mode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as proposed.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thod has been evaluated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employing so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al-life examples and proved to be effective both in terms of analysis quality and computational c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gh frequency bias (HFB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ignal which is introduced to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gnetic ta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uring the recording process serves as an ideal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arg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parasite wow characteristic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determin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nce the bias signal is of high frequency,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TFT analy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rovides 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suitable tool to deal with the problem of detecting time-frequency varia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The smoothing of the spectrogram, both in time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in frequency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main as well as preemphasis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pply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llow reducing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luence of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FB amplitude irregularit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the PVC detec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ing that HFB is present on the tape, the engineered algorithm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ork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y r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st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terms of PVC detection and allows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a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ective signal resto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8600" y="3222720"/>
            <a:ext cx="6972120" cy="544356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6"/>
          <a:stretch/>
        </p:blipFill>
        <p:spPr>
          <a:xfrm>
            <a:off x="7947000" y="11820600"/>
            <a:ext cx="6251760" cy="31384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7"/>
          <a:stretch/>
        </p:blipFill>
        <p:spPr>
          <a:xfrm>
            <a:off x="7980480" y="15903720"/>
            <a:ext cx="6242040" cy="31287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7808760" y="11741040"/>
            <a:ext cx="6502680" cy="3990960"/>
          </a:xfrm>
          <a:prstGeom prst="downArrowCallout">
            <a:avLst>
              <a:gd name="adj1" fmla="val 57606"/>
              <a:gd name="adj2" fmla="val 46859"/>
              <a:gd name="adj3" fmla="val 10940"/>
              <a:gd name="adj4" fmla="val 83352"/>
            </a:avLst>
          </a:prstGeom>
          <a:noFill/>
          <a:ln w="2844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0029960" y="15152760"/>
            <a:ext cx="21049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808080"/>
                </a:solidFill>
                <a:latin typeface="Tahoma"/>
              </a:rPr>
              <a:t>R E S T O R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2350880" y="12308040"/>
            <a:ext cx="1509480" cy="10015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985160" y="15268680"/>
            <a:ext cx="12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00"/>
                </a:solidFill>
                <a:latin typeface="Tahoma"/>
              </a:rPr>
              <a:t>W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8839080" y="13164840"/>
            <a:ext cx="3584520" cy="20746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815320" y="12287160"/>
            <a:ext cx="1509840" cy="1001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8715240" y="13390560"/>
            <a:ext cx="695520" cy="1844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809200" y="16300440"/>
            <a:ext cx="1365120" cy="798480"/>
          </a:xfrm>
          <a:prstGeom prst="ellipse">
            <a:avLst/>
          </a:prstGeom>
          <a:noFill/>
          <a:ln w="2844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2415680" y="16322760"/>
            <a:ext cx="1365480" cy="798480"/>
          </a:xfrm>
          <a:prstGeom prst="ellipse">
            <a:avLst/>
          </a:prstGeom>
          <a:noFill/>
          <a:ln w="2844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173960" y="15806880"/>
            <a:ext cx="3267000" cy="725400"/>
          </a:xfrm>
          <a:prstGeom prst="line">
            <a:avLst/>
          </a:prstGeom>
          <a:ln w="284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941280" y="15320880"/>
            <a:ext cx="169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66ff"/>
                </a:solidFill>
                <a:latin typeface="Tahoma"/>
              </a:rPr>
              <a:t>No W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13242600" y="15770160"/>
            <a:ext cx="336600" cy="495360"/>
          </a:xfrm>
          <a:prstGeom prst="line">
            <a:avLst/>
          </a:prstGeom>
          <a:ln w="284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089000" y="2509920"/>
            <a:ext cx="10566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38"/>
              </a:spcBef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1T15:17:37Z</dcterms:created>
  <dc:creator>JRS</dc:creator>
  <dc:description/>
  <dc:language>en-US</dc:language>
  <cp:lastModifiedBy>Przemysław Maziewski</cp:lastModifiedBy>
  <dcterms:modified xsi:type="dcterms:W3CDTF">2005-03-16T12:41:43Z</dcterms:modified>
  <cp:revision>68</cp:revision>
  <dc:subject/>
  <dc:title>Titel</dc:title>
</cp:coreProperties>
</file>