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2632988" cy="32043688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200-5C26-4E0E-A5A3-DF26D762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0040" y="7476840"/>
            <a:ext cx="203706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30040" y="18521640"/>
            <a:ext cx="203706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B8B-77E0-458A-A945-D62E3537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30040" y="74768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68240" y="74768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30040" y="185216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568240" y="185216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892-11B9-436B-A01D-BA619311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30040" y="7476840"/>
            <a:ext cx="65592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017560" y="7476840"/>
            <a:ext cx="65592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905080" y="7476840"/>
            <a:ext cx="65592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30040" y="18521640"/>
            <a:ext cx="65592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017560" y="18521640"/>
            <a:ext cx="65592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905080" y="18521640"/>
            <a:ext cx="65592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B13-9996-4407-94E3-E6097226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30040" y="7476840"/>
            <a:ext cx="20370600" cy="211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12D-6F20-4F6E-90F3-901DC6FE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30040" y="7476840"/>
            <a:ext cx="20370600" cy="21145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EA6-F648-419E-A02D-06F13683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30040" y="7476840"/>
            <a:ext cx="9940680" cy="21145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568240" y="7476840"/>
            <a:ext cx="9940680" cy="21145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8CF-EE08-4BA0-81F3-9DE3411D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110-7FE4-4593-90C4-3BE6BAF0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30040" y="1283760"/>
            <a:ext cx="20370600" cy="247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E99E-F975-4330-936F-13E5F24C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30040" y="74768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568240" y="7476840"/>
            <a:ext cx="9940680" cy="21145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30040" y="185216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E33-4EFB-422F-B893-DF9D79CA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30040" y="7476840"/>
            <a:ext cx="9940680" cy="21145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568240" y="74768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68240" y="185216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F21-700F-480B-AE03-FB2F3B8D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30040" y="74768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568240" y="74768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30040" y="18521640"/>
            <a:ext cx="203706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7BC-C801-45FC-8F81-C3D1F14F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30040" y="7476840"/>
            <a:ext cx="20370600" cy="21145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marL="1170000" indent="-117000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1" marL="2536920" indent="-97308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2" marL="3903840" indent="-77976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3" marL="5467320" indent="-7808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4" marL="7031160" indent="-7844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5" marL="7031160" indent="-7844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6" marL="7031160" indent="-7844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30040" y="29178000"/>
            <a:ext cx="5281560" cy="2227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Autofit/>
          </a:bodyPr>
          <a:lstStyle>
            <a:lvl1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  <a:defRPr b="0" lang="de-DE" sz="4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de-DE" sz="4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732440" y="29178000"/>
            <a:ext cx="7165800" cy="2227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Autofit/>
          </a:bodyPr>
          <a:lstStyle>
            <a:lvl1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  <a:defRPr b="0" lang="de-DE" sz="4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de-DE" sz="4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219080" y="29178000"/>
            <a:ext cx="5281560" cy="2227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Autofit/>
          </a:bodyPr>
          <a:lstStyle>
            <a:lvl1pPr indent="0" algn="r">
              <a:buNone/>
              <a:tabLst>
                <a:tab algn="l" pos="0"/>
                <a:tab algn="l" pos="3124080"/>
                <a:tab algn="l" pos="6248520"/>
                <a:tab algn="l" pos="9372600"/>
              </a:tabLst>
              <a:defRPr b="0" lang="de-DE" sz="4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fld id="{BB557A62-8FBC-4810-AA4D-56B9C448308C}" type="slidenum">
              <a:rPr b="0" lang="de-DE" sz="4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hyperlink" Target="mailto:ac@pg.gda.pl" TargetMode="External"/><Relationship Id="rId9" Type="http://schemas.openxmlformats.org/officeDocument/2006/relationships/hyperlink" Target="mailto:ac@pg.gda.pl" TargetMode="External"/><Relationship Id="rId10" Type="http://schemas.openxmlformats.org/officeDocument/2006/relationships/hyperlink" Target="mailto:ac@pg.gda.pl" TargetMode="External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43040" y="8548560"/>
          <a:ext cx="20850120" cy="121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548560"/>
                    <a:ext cx="20850120" cy="121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683160" y="10825200"/>
          <a:ext cx="9605880" cy="533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83160" y="10825200"/>
                    <a:ext cx="96058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259160" y="22588560"/>
          <a:ext cx="14401800" cy="814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>
                    <a:alphaModFix amt="50000"/>
                  </a:blip>
                  <a:stretch/>
                </p:blipFill>
                <p:spPr>
                  <a:xfrm>
                    <a:off x="4259160" y="22588560"/>
                    <a:ext cx="14401800" cy="81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4433480" y="604800"/>
            <a:ext cx="7908840" cy="8693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74640" y="4255560"/>
            <a:ext cx="21131280" cy="406116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Autofit/>
          </a:bodyPr>
          <a:p>
            <a:pPr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Defect origin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1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w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 and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difficult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o compensate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type of audio distort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It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found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gnetic</a:t>
            </a:r>
            <a:r>
              <a:rPr b="1" lang="pl-PL" sz="3100" spc="-1" strike="noStrike">
                <a:solidFill>
                  <a:srgbClr val="000000"/>
                </a:solidFill>
                <a:latin typeface="Arial"/>
              </a:rPr>
              <a:t> and optical sound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apes</a:t>
            </a:r>
            <a:r>
              <a:rPr b="1" lang="pl-PL" sz="3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he main source of the defect is the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irregular velocity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3100"/>
            </a:b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sound carrier. 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f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wow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found in: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udio path components excentricity or ellipticity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as well as in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otor speed fluctuations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carrier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damages (loss of perforation)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inappropriate production techniques (tape cuts &amp; joins).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PRESTOSPACE project participants from the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dansk University of Technology (PL)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developed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n application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combining several  developed algorithms and additional graphical routines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wow compensation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37920" y="1617840"/>
            <a:ext cx="21027960" cy="196056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1" lang="en-GB" sz="8500" spc="-1" strike="noStrike">
                <a:solidFill>
                  <a:srgbClr val="333399"/>
                </a:solidFill>
                <a:latin typeface="Arial"/>
              </a:rPr>
              <a:t>Movie</a:t>
            </a:r>
            <a:r>
              <a:rPr b="1" lang="pl-PL" sz="8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8500" spc="-1" strike="noStrike">
                <a:solidFill>
                  <a:srgbClr val="333399"/>
                </a:solidFill>
                <a:latin typeface="Arial"/>
              </a:rPr>
              <a:t>Soundtrack</a:t>
            </a:r>
            <a:r>
              <a:rPr b="1" lang="pl-PL" sz="8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8500" spc="-1" strike="noStrike">
                <a:solidFill>
                  <a:srgbClr val="333399"/>
                </a:solidFill>
                <a:latin typeface="Arial"/>
              </a:rPr>
              <a:t>Wow Restoration</a:t>
            </a:r>
            <a:r>
              <a:rPr b="0" lang="en-GB" sz="9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pl-PL" sz="3900" spc="-1" strike="noStrike">
                <a:solidFill>
                  <a:srgbClr val="333399"/>
                </a:solidFill>
                <a:latin typeface="Arial"/>
              </a:rPr>
              <a:t>A.</a:t>
            </a:r>
            <a:r>
              <a:rPr b="0" lang="pl-PL" sz="9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3900" spc="-1" strike="noStrike">
                <a:solidFill>
                  <a:srgbClr val="333399"/>
                </a:solidFill>
                <a:latin typeface="Arial"/>
              </a:rPr>
              <a:t>Czyzewski, </a:t>
            </a:r>
            <a:r>
              <a:rPr b="0" i="1" lang="pl-PL" sz="3900" spc="-1" strike="noStrike">
                <a:solidFill>
                  <a:srgbClr val="333399"/>
                </a:solidFill>
                <a:latin typeface="Arial"/>
              </a:rPr>
              <a:t>P. Maziewski, M. Dziubinski, A. Ciarkowski, M. Kulesza,</a:t>
            </a:r>
            <a:br>
              <a:rPr sz="3900"/>
            </a:br>
            <a:r>
              <a:rPr b="0" i="1" lang="pl-PL" sz="3900" spc="-1" strike="noStrike">
                <a:solidFill>
                  <a:srgbClr val="333399"/>
                </a:solidFill>
                <a:latin typeface="Arial"/>
              </a:rPr>
              <a:t>J. Kotus  &amp; B. Kostek   </a:t>
            </a:r>
            <a:r>
              <a:rPr b="0" lang="en-GB" sz="3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c@pg.</a:t>
            </a:r>
            <a:r>
              <a:rPr b="0" lang="en-GB" sz="3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gda</a:t>
            </a:r>
            <a:r>
              <a:rPr b="0" lang="en-GB" sz="3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pl</a:t>
            </a:r>
            <a:r>
              <a:rPr b="0" i="1" lang="pl-PL" sz="39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18399240" y="26104680"/>
            <a:ext cx="3065400" cy="4678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12"/>
          <a:srcRect l="0" t="13961" r="0" b="7447"/>
          <a:stretch/>
        </p:blipFill>
        <p:spPr>
          <a:xfrm>
            <a:off x="961920" y="4305240"/>
            <a:ext cx="2778120" cy="305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34640" y="15365520"/>
            <a:ext cx="2263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91720" y="14141520"/>
            <a:ext cx="2263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63080" y="14271480"/>
            <a:ext cx="2263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91440" y="14217480"/>
            <a:ext cx="2263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6320" y="8445600"/>
            <a:ext cx="21110760" cy="142002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7480" y="4186080"/>
            <a:ext cx="21088440" cy="41245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1079640" y="28825920"/>
            <a:ext cx="3570120" cy="1798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12800" y="22829760"/>
            <a:ext cx="21131280" cy="81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440" rIns="199440" tIns="99720" bIns="99720" anchor="t">
            <a:noAutofit/>
          </a:bodyPr>
          <a:p>
            <a:pPr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pl-PL" sz="4700" spc="-1" strike="noStrike">
                <a:solidFill>
                  <a:srgbClr val="000000"/>
                </a:solidFill>
                <a:latin typeface="Arial"/>
              </a:rPr>
              <a:t>DeWower application – audio analysi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4880" y="22798080"/>
            <a:ext cx="21156480" cy="82040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772480" y="13920840"/>
          <a:ext cx="5064120" cy="3322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772480" y="13920840"/>
                    <a:ext cx="5064120" cy="33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52400" y="17811720"/>
            <a:ext cx="64771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-line h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ypical for recordings coming from pre-digital era. Its presence may be effectively exploited in order to estimate the characteristics of wow disturbance. Due to 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signal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hard to analy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refore, engineered plugin utilizes methods typically fou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ism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ications to overcome shortcomings of classical Fourier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77000" y="17364240"/>
            <a:ext cx="653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is added to recorder’s head during the recording process. Usually 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fluctu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lect parasite pitch variations of the audio content. Despi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ntinu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HFB signal, engineered plugin allows analyzing of its properties, and estimating of wow disturbance characteristic. User has an ability to adjust accuracy as well as other parameters of the analysi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6"/>
          <a:stretch/>
        </p:blipFill>
        <p:spPr>
          <a:xfrm>
            <a:off x="1189080" y="11337840"/>
            <a:ext cx="4560840" cy="6432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5102000"/>
            <a:ext cx="2263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6560" y="8459640"/>
            <a:ext cx="13439880" cy="13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440" rIns="199440" tIns="99720" bIns="99720" anchor="t">
            <a:noAutofit/>
          </a:bodyPr>
          <a:p>
            <a:pPr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pl-PL" sz="4700" spc="-1" strike="noStrike">
                <a:solidFill>
                  <a:srgbClr val="000000"/>
                </a:solidFill>
                <a:latin typeface="Arial"/>
              </a:rPr>
              <a:t>DeWower application – artefacts analysi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noticed tha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self can provide sufficient information about the carrier velocity irregulariti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herefore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rst group of the engineered algorithms contains methods dedicated to power-line hum and high frequency bias (HFB) tra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lugin_intrface" descr=""/>
          <p:cNvPicPr/>
          <p:nvPr/>
        </p:nvPicPr>
        <p:blipFill>
          <a:blip r:embed="rId17"/>
          <a:stretch/>
        </p:blipFill>
        <p:spPr>
          <a:xfrm>
            <a:off x="15981480" y="9852120"/>
            <a:ext cx="4270320" cy="8723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290560" y="8440560"/>
            <a:ext cx="7410600" cy="15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440" rIns="199440" tIns="99720" bIns="99720" anchor="t">
            <a:noAutofit/>
          </a:bodyPr>
          <a:p>
            <a:pPr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Perceptual DeNoiser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VST plugin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503320" y="18535680"/>
            <a:ext cx="72993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ustic noise, present in archival recordings is usu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site frequency modulation and wow removal may influen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ise stationar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us noise reduction is a significant part of the en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 wow removal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oiser plugin is a high quality, and user friendly tool, which can be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coustic noise remova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4258880" y="8458200"/>
            <a:ext cx="28800" cy="14173200"/>
          </a:xfrm>
          <a:prstGeom prst="line">
            <a:avLst/>
          </a:prstGeom>
          <a:ln w="381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0560" y="23564880"/>
            <a:ext cx="209930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al life recordings parasite artefacts, such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always pres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Moreover even if available the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cessa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late with w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refore there is a need for the wow evaluation algorithms utilizing only genuine audio content analysis. It is worth to notice that this task is more difficult then a ‘simple’ artefacts ana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hieve this several new methods were developed and assessed. Current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W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ication. utilize audio spectrum analysis. Another algorithms. i.e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ovatory time-ba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 spectral-ba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utines, are being imple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8"/>
          <a:stretch/>
        </p:blipFill>
        <p:spPr>
          <a:xfrm>
            <a:off x="4657680" y="25993800"/>
            <a:ext cx="7391520" cy="377352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5902200" y="26742960"/>
            <a:ext cx="5136840" cy="1439640"/>
            <a:chOff x="5902200" y="26742960"/>
            <a:chExt cx="5136840" cy="1439640"/>
          </a:xfrm>
        </p:grpSpPr>
        <p:sp>
          <p:nvSpPr>
            <p:cNvPr id="75" name=""/>
            <p:cNvSpPr/>
            <p:nvPr/>
          </p:nvSpPr>
          <p:spPr>
            <a:xfrm>
              <a:off x="7615440" y="26742960"/>
              <a:ext cx="190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600" spc="-1" strike="noStrike">
                  <a:solidFill>
                    <a:srgbClr val="ff0000"/>
                  </a:solidFill>
                  <a:latin typeface="Tahoma"/>
                </a:rPr>
                <a:t>Wow 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02200" y="27310680"/>
              <a:ext cx="5136840" cy="8719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0888560" y="27282600"/>
            <a:ext cx="7367760" cy="3713400"/>
            <a:chOff x="10888560" y="27282600"/>
            <a:chExt cx="7367760" cy="3713400"/>
          </a:xfrm>
        </p:grpSpPr>
        <p:pic>
          <p:nvPicPr>
            <p:cNvPr id="78" name="" descr=""/>
            <p:cNvPicPr/>
            <p:nvPr/>
          </p:nvPicPr>
          <p:blipFill>
            <a:blip r:embed="rId19"/>
            <a:stretch/>
          </p:blipFill>
          <p:spPr>
            <a:xfrm>
              <a:off x="10888560" y="27282600"/>
              <a:ext cx="7367760" cy="37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3562640" y="29445120"/>
              <a:ext cx="258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600" spc="-1" strike="noStrike">
                  <a:solidFill>
                    <a:srgbClr val="0066ff"/>
                  </a:solidFill>
                  <a:latin typeface="Tahoma"/>
                </a:rPr>
                <a:t>No Wow 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261600" y="28609920"/>
              <a:ext cx="4982760" cy="811440"/>
            </a:xfrm>
            <a:prstGeom prst="ellipse">
              <a:avLst/>
            </a:prstGeom>
            <a:noFill/>
            <a:ln w="442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2088800" y="26004960"/>
            <a:ext cx="6261120" cy="1236600"/>
            <a:chOff x="12088800" y="26004960"/>
            <a:chExt cx="6261120" cy="1236600"/>
          </a:xfrm>
        </p:grpSpPr>
        <p:sp>
          <p:nvSpPr>
            <p:cNvPr id="82" name=""/>
            <p:cNvSpPr/>
            <p:nvPr/>
          </p:nvSpPr>
          <p:spPr>
            <a:xfrm rot="5400000">
              <a:off x="14603040" y="23494680"/>
              <a:ext cx="1232280" cy="6261120"/>
            </a:xfrm>
            <a:custGeom>
              <a:avLst/>
              <a:gdLst>
                <a:gd name="textAreaLeft" fmla="*/ 0 w 1232280"/>
                <a:gd name="textAreaRight" fmla="*/ 1232640 w 1232280"/>
                <a:gd name="textAreaTop" fmla="*/ 0 h 6261120"/>
                <a:gd name="textAreaBottom" fmla="*/ 6261480 h 626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439" stAng="10800000" swAng="5400000"/>
                  <a:lnTo>
                    <a:pt x="14076" y="1721"/>
                  </a:lnTo>
                  <a:lnTo>
                    <a:pt x="14076" y="0"/>
                  </a:lnTo>
                  <a:lnTo>
                    <a:pt x="21600" y="6079"/>
                  </a:lnTo>
                  <a:lnTo>
                    <a:pt x="14076" y="12158"/>
                  </a:lnTo>
                  <a:lnTo>
                    <a:pt x="14076" y="10437"/>
                  </a:lnTo>
                  <a:lnTo>
                    <a:pt x="12427" y="10437"/>
                  </a:lnTo>
                  <a:arcTo wR="3711" hR="1723" stAng="16200000" swAng="-5400000"/>
                  <a:lnTo>
                    <a:pt x="8716" y="2160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381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636720" y="26004960"/>
              <a:ext cx="376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808080"/>
                  </a:solidFill>
                  <a:latin typeface="Tahoma"/>
                </a:rPr>
                <a:t>R E S T O R 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5:17:37Z</dcterms:created>
  <dc:creator>JRS</dc:creator>
  <dc:description/>
  <dc:language>en-US</dc:language>
  <cp:lastModifiedBy>Przemysław Maziewski</cp:lastModifiedBy>
  <dcterms:modified xsi:type="dcterms:W3CDTF">2005-10-04T14:06:26Z</dcterms:modified>
  <cp:revision>84</cp:revision>
  <dc:subject/>
  <dc:title>Titel</dc:title>
</cp:coreProperties>
</file>