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9804063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CAF3-6A92-4AAE-909A-8EA8D39A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793800"/>
            <a:ext cx="13611240" cy="33004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4620960"/>
            <a:ext cx="1361124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11446920"/>
            <a:ext cx="1361124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4EF-0390-40F1-A5F8-14CA6738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793800"/>
            <a:ext cx="13611240" cy="33004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4620960"/>
            <a:ext cx="664200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4620960"/>
            <a:ext cx="664200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11446920"/>
            <a:ext cx="664200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11446920"/>
            <a:ext cx="664200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C93D-9D55-4FEB-8A81-BADDE1E7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793800"/>
            <a:ext cx="13611240" cy="33004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4620960"/>
            <a:ext cx="438264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4620960"/>
            <a:ext cx="438264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4620960"/>
            <a:ext cx="438264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11446920"/>
            <a:ext cx="438264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11446920"/>
            <a:ext cx="438264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11446920"/>
            <a:ext cx="438264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92CA-4111-46E1-8CE3-D137C76E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793800"/>
            <a:ext cx="13611240" cy="33004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4620960"/>
            <a:ext cx="13611240" cy="130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015-F7CE-4E5D-A5C7-BBC8A5EA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793800"/>
            <a:ext cx="13611240" cy="33004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4620960"/>
            <a:ext cx="13611240" cy="1306836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E2FF-4677-4E99-80BE-6BB88779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793800"/>
            <a:ext cx="13611240" cy="33004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4620960"/>
            <a:ext cx="6642000" cy="1306836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4620960"/>
            <a:ext cx="6642000" cy="1306836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445-C9E6-4D9D-BF63-499075A6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793800"/>
            <a:ext cx="13611240" cy="33004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56B-3F7C-4EA3-8E73-FC2558B0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793800"/>
            <a:ext cx="13611240" cy="153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A9DC-ECE5-46BA-9AA8-19E7645A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793800"/>
            <a:ext cx="13611240" cy="33004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4620960"/>
            <a:ext cx="664200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4620960"/>
            <a:ext cx="6642000" cy="1306836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11446920"/>
            <a:ext cx="664200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5E61-ACC7-4D76-8D25-30ACD476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793800"/>
            <a:ext cx="13611240" cy="33004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4620960"/>
            <a:ext cx="6642000" cy="1306836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4620960"/>
            <a:ext cx="664200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11446920"/>
            <a:ext cx="664200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166-1294-495F-8FFF-FBD42CB6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793800"/>
            <a:ext cx="13611240" cy="33004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4620960"/>
            <a:ext cx="664200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4620960"/>
            <a:ext cx="664200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11446920"/>
            <a:ext cx="13611240" cy="6233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03F7-8FCC-40DA-8619-7C174638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793800"/>
            <a:ext cx="13611240" cy="33004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4620960"/>
            <a:ext cx="13611240" cy="1306836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rmAutofit/>
          </a:bodyPr>
          <a:p>
            <a:pPr marL="747720" indent="-74772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1" marL="1620720" indent="-62208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2" marL="2494080" indent="-4986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3" marL="3492360" indent="-4982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4" marL="4491000" indent="-50004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5" marL="4491000" indent="-50004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6" marL="4491000" indent="-50004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18032040"/>
            <a:ext cx="3529080" cy="13762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Autofit/>
          </a:bodyPr>
          <a:lstStyle>
            <a:lvl1pPr indent="0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  <a:defRPr b="0" lang="en-US" sz="3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18032040"/>
            <a:ext cx="4787640" cy="13762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Autofit/>
          </a:bodyPr>
          <a:lstStyle>
            <a:lvl1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  <a:defRPr b="0" lang="en-US" sz="3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18032040"/>
            <a:ext cx="3529080" cy="137628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Autofit/>
          </a:bodyPr>
          <a:lstStyle>
            <a:lvl1pPr indent="0" algn="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  <a:defRPr b="0" lang="en-US" sz="3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fld id="{D35F1359-E0BE-4FE5-8647-1804E4317153}" type="slidenum">
              <a:rPr b="0" lang="en-US" sz="3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mailto:ac@pg.gda.pl" TargetMode="External"/><Relationship Id="rId6" Type="http://schemas.openxmlformats.org/officeDocument/2006/relationships/hyperlink" Target="mailto:ac@pg.gda.pl" TargetMode="External"/><Relationship Id="rId7" Type="http://schemas.openxmlformats.org/officeDocument/2006/relationships/hyperlink" Target="mailto:ac@pg.gda.pl" TargetMode="External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wmf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97880" y="11258640"/>
            <a:ext cx="6975360" cy="78832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9440" rIns="199440" tIns="99720" bIns="9972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Prepared wow restoration plug-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856640" y="6831000"/>
            <a:ext cx="7010280" cy="355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555480" y="8804160"/>
          <a:ext cx="6721560" cy="494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5480" y="8804160"/>
                    <a:ext cx="6721560" cy="49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960560" y="2817720"/>
            <a:ext cx="5284800" cy="5372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60000" y="3385800"/>
            <a:ext cx="7048440" cy="1588932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fect ori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 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ifficult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 compensat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ype of audio distor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uld be fou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te magnetic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p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s well a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n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ptical tap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ere the audio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placed next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 the perfo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 main source of the defect is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rregular veloc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sound carrier.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n be found in: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dio path components excentricity or ellipticit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tor speed fluctuati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rri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amages (loss of perforation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appropriate production techniques (tape cuts &amp; joins)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TOSPACE project participant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dansk University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f Technology (PL)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ed several methods for th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w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ect restoratio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pectral Content Analysis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 obtai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w characteristic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he audio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pectrogra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n be analysed. The proposed algorithms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rack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hos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ctra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usoida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ompon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whereby the wow variations are evalua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tected components form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ajectori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pic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the defect with high accuracy. Based on further statistical post-processing the general wow characteristic is fou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anning for trajectories can be performed in several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ectral-based domai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FT bas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nusoid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s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othed spectru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present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FT based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ectrum centre of grav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190520" y="999720"/>
            <a:ext cx="11103120" cy="121140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buNone/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1" lang="en-GB" sz="5400" spc="-1" strike="noStrike">
                <a:solidFill>
                  <a:srgbClr val="333399"/>
                </a:solidFill>
                <a:latin typeface="Arial"/>
              </a:rPr>
              <a:t>Wow Restoration in Movie </a:t>
            </a:r>
            <a:br>
              <a:rPr sz="5400"/>
            </a:br>
            <a:r>
              <a:rPr b="1" lang="en-GB" sz="5400" spc="-1" strike="noStrike">
                <a:solidFill>
                  <a:srgbClr val="333399"/>
                </a:solidFill>
                <a:latin typeface="Arial"/>
              </a:rPr>
              <a:t>Soundtracks</a:t>
            </a:r>
            <a:r>
              <a:rPr b="0" lang="en-GB" sz="6000" spc="-1" strike="noStrike">
                <a:solidFill>
                  <a:srgbClr val="333399"/>
                </a:solidFill>
                <a:latin typeface="Arial"/>
              </a:rPr>
              <a:t>  </a:t>
            </a:r>
            <a:br>
              <a:rPr sz="6000"/>
            </a:br>
            <a:r>
              <a:rPr b="0" i="1" lang="pl-PL" sz="2500" spc="-1" strike="noStrike">
                <a:solidFill>
                  <a:srgbClr val="333399"/>
                </a:solidFill>
                <a:latin typeface="Arial"/>
              </a:rPr>
              <a:t>A.</a:t>
            </a:r>
            <a:r>
              <a:rPr b="0" lang="pl-PL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GB" sz="2500" spc="-1" strike="noStrike">
                <a:solidFill>
                  <a:srgbClr val="333399"/>
                </a:solidFill>
                <a:latin typeface="Arial"/>
              </a:rPr>
              <a:t>Czyzewski, </a:t>
            </a:r>
            <a:r>
              <a:rPr b="0" i="1" lang="pl-PL" sz="2500" spc="-1" strike="noStrike">
                <a:solidFill>
                  <a:srgbClr val="333399"/>
                </a:solidFill>
                <a:latin typeface="Arial"/>
              </a:rPr>
              <a:t>P. Maziewski, M. Dziubinski, A. Ciarkowski, M. Kulesza,     J. Kotus  &amp; B. Kostek   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ac@pg.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gda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pl</a:t>
            </a:r>
            <a:r>
              <a:rPr b="0" i="1" lang="pl-PL" sz="25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11817360" y="76320"/>
            <a:ext cx="2143080" cy="30258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9"/>
          <a:srcRect l="0" t="13961" r="0" b="7447"/>
          <a:stretch/>
        </p:blipFill>
        <p:spPr>
          <a:xfrm>
            <a:off x="784080" y="3382920"/>
            <a:ext cx="1597320" cy="229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03800" y="9496440"/>
            <a:ext cx="1512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08760" y="8739360"/>
            <a:ext cx="1512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22880" y="8820000"/>
            <a:ext cx="1512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75360" y="8786880"/>
            <a:ext cx="1512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75360" y="8786880"/>
            <a:ext cx="1512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12640" y="14054040"/>
            <a:ext cx="6877080" cy="5229360"/>
            <a:chOff x="512640" y="14054040"/>
            <a:chExt cx="6877080" cy="5229360"/>
          </a:xfrm>
        </p:grpSpPr>
        <p:pic>
          <p:nvPicPr>
            <p:cNvPr id="56" name="constVSflow-xcorrShapes" descr=""/>
            <p:cNvPicPr/>
            <p:nvPr/>
          </p:nvPicPr>
          <p:blipFill>
            <a:blip r:embed="rId10"/>
            <a:stretch/>
          </p:blipFill>
          <p:spPr>
            <a:xfrm>
              <a:off x="579240" y="14054040"/>
              <a:ext cx="3430800" cy="27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constVSflow-Specgrams" descr=""/>
            <p:cNvPicPr/>
            <p:nvPr/>
          </p:nvPicPr>
          <p:blipFill>
            <a:blip r:embed="rId11"/>
            <a:stretch/>
          </p:blipFill>
          <p:spPr>
            <a:xfrm>
              <a:off x="3932280" y="14154120"/>
              <a:ext cx="3332160" cy="25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constVSflow-xcorr" descr=""/>
            <p:cNvPicPr/>
            <p:nvPr/>
          </p:nvPicPr>
          <p:blipFill>
            <a:blip r:embed="rId12"/>
            <a:stretch/>
          </p:blipFill>
          <p:spPr>
            <a:xfrm>
              <a:off x="512640" y="16863840"/>
              <a:ext cx="3403800" cy="23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wfdf1-specg_pvcSlopes" descr=""/>
            <p:cNvPicPr/>
            <p:nvPr/>
          </p:nvPicPr>
          <p:blipFill>
            <a:blip r:embed="rId13"/>
            <a:stretch/>
          </p:blipFill>
          <p:spPr>
            <a:xfrm>
              <a:off x="4113360" y="16825680"/>
              <a:ext cx="3276360" cy="245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57200" y="14017680"/>
            <a:ext cx="6991200" cy="51242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9440" rIns="199440" tIns="99720" bIns="9972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ain Based Meth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put signal is divided into short segments, and each of such segments i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ed in order to determine PVC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Pitch Variation Curve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PVC chang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re tracked in the following w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- Current segment 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uniformly resampled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arious PVC slo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correlation sequences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are calculated for each re</a:t>
            </a: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ampled version of </a:t>
            </a: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current bl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gular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resampled version is treated</a:t>
            </a: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as  locally constant (in terms of PVC variatio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eriodicity is indicated by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correlatio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elope propertie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After calculating local PVCs, </a:t>
            </a: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PVC is recursivel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from the </a:t>
            </a: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fragments estimating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local slo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6280" y="8759880"/>
            <a:ext cx="6972120" cy="50353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332920" y="3538440"/>
            <a:ext cx="5863680" cy="2995560"/>
            <a:chOff x="8332920" y="3538440"/>
            <a:chExt cx="5863680" cy="2995560"/>
          </a:xfrm>
        </p:grpSpPr>
        <p:pic>
          <p:nvPicPr>
            <p:cNvPr id="63" name="" descr=""/>
            <p:cNvPicPr/>
            <p:nvPr/>
          </p:nvPicPr>
          <p:blipFill>
            <a:blip r:embed="rId14"/>
            <a:stretch/>
          </p:blipFill>
          <p:spPr>
            <a:xfrm>
              <a:off x="8332920" y="3538440"/>
              <a:ext cx="358092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5">
              <a:lum bright="84000"/>
            </a:blip>
            <a:srcRect l="6602" t="0" r="0" b="0"/>
            <a:stretch/>
          </p:blipFill>
          <p:spPr>
            <a:xfrm>
              <a:off x="10733040" y="4323960"/>
              <a:ext cx="3463560" cy="22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7751880" y="3214800"/>
            <a:ext cx="6956280" cy="79153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9440" rIns="199440" tIns="99720" bIns="9972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eature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-line hu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commonly found in archival recordings. Based on the assumption that it was introduced into audio path during the recording phase and was subject to the same wow distortion 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useful signal, it is possible to estimate the depth of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w effect through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ing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f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um frequen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relatively low frequency of hum it is practically impossible to analyze it with satisfactory time/frequency resolution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mploy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ditional DFT methods. Therefore a method based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regressive mo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proposed.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has been evaluated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mploying s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al-life examples and proved to be effective both in terms of analysis quality and computational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frequency bias (HF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gnal which is introduced to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gnetic ta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ring the recording process serves as an ideal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parasite wow characteristic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determi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nce the bias signal is of high frequency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FT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vides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uitable tool to deal with the problem of detecting time-frequency vari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smoothing of the spectrogram, both in tim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n frequenc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as well as preemphasi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pply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ow reducing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FB amplitude irregular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the PVC det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ing that HFB is present on the tape, the engineered algorithm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or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y r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t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erms of PVC detection and allow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signal rest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8600" y="3222720"/>
            <a:ext cx="6972120" cy="544356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6"/>
          <a:stretch/>
        </p:blipFill>
        <p:spPr>
          <a:xfrm>
            <a:off x="7947000" y="11820600"/>
            <a:ext cx="6251760" cy="3138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7"/>
          <a:stretch/>
        </p:blipFill>
        <p:spPr>
          <a:xfrm>
            <a:off x="7980480" y="15903720"/>
            <a:ext cx="6242040" cy="3128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808760" y="11741040"/>
            <a:ext cx="6502680" cy="3990960"/>
          </a:xfrm>
          <a:prstGeom prst="downArrowCallout">
            <a:avLst>
              <a:gd name="adj1" fmla="val 57606"/>
              <a:gd name="adj2" fmla="val 46859"/>
              <a:gd name="adj3" fmla="val 10940"/>
              <a:gd name="adj4" fmla="val 83352"/>
            </a:avLst>
          </a:prstGeom>
          <a:noFill/>
          <a:ln w="2844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029960" y="15152760"/>
            <a:ext cx="21049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08080"/>
                </a:solidFill>
                <a:latin typeface="Tahoma"/>
              </a:rPr>
              <a:t>R E S T O R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350880" y="12308040"/>
            <a:ext cx="1509480" cy="1001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85160" y="1526868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ahoma"/>
              </a:rPr>
              <a:t>W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839080" y="13164840"/>
            <a:ext cx="3584520" cy="2074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815320" y="12287160"/>
            <a:ext cx="1509840" cy="1001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715240" y="13390560"/>
            <a:ext cx="695520" cy="1844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809200" y="16300440"/>
            <a:ext cx="1365120" cy="798480"/>
          </a:xfrm>
          <a:prstGeom prst="ellipse">
            <a:avLst/>
          </a:prstGeom>
          <a:noFill/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415680" y="16322760"/>
            <a:ext cx="1365480" cy="798480"/>
          </a:xfrm>
          <a:prstGeom prst="ellipse">
            <a:avLst/>
          </a:prstGeom>
          <a:noFill/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173960" y="15806880"/>
            <a:ext cx="3267000" cy="725400"/>
          </a:xfrm>
          <a:prstGeom prst="line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41280" y="15320880"/>
            <a:ext cx="16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66ff"/>
                </a:solidFill>
                <a:latin typeface="Tahoma"/>
              </a:rPr>
              <a:t>No W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3242600" y="15770160"/>
            <a:ext cx="336600" cy="495360"/>
          </a:xfrm>
          <a:prstGeom prst="line">
            <a:avLst/>
          </a:prstGeom>
          <a:ln w="284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9000" y="2509920"/>
            <a:ext cx="1056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38"/>
              </a:spcBef>
              <a:tabLst>
                <a:tab algn="l" pos="0"/>
                <a:tab algn="l" pos="1995480"/>
                <a:tab algn="l" pos="3990960"/>
                <a:tab algn="l" pos="5986440"/>
                <a:tab algn="l" pos="7981920"/>
                <a:tab algn="l" pos="9977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5:17:37Z</dcterms:created>
  <dc:creator>JRS</dc:creator>
  <dc:description/>
  <dc:language>en-US</dc:language>
  <cp:lastModifiedBy>Przemysław Maziewski</cp:lastModifiedBy>
  <dcterms:modified xsi:type="dcterms:W3CDTF">2005-03-16T12:41:43Z</dcterms:modified>
  <cp:revision>68</cp:revision>
  <dc:subject/>
  <dc:title>Titel</dc:title>
</cp:coreProperties>
</file>