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3625" cy="30275213"/>
  <p:notesSz cx="28346400" cy="40946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91760" y="1544400"/>
            <a:ext cx="1859292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91760" y="7256520"/>
            <a:ext cx="1859292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91760" y="17440560"/>
            <a:ext cx="1859292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91760" y="1544400"/>
            <a:ext cx="1859292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91760" y="7256520"/>
            <a:ext cx="907308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918800" y="7256520"/>
            <a:ext cx="907308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91760" y="17440560"/>
            <a:ext cx="907308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10918800" y="17440560"/>
            <a:ext cx="907308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1760" y="1544400"/>
            <a:ext cx="1859292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1760" y="7256520"/>
            <a:ext cx="598680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78440" y="7256520"/>
            <a:ext cx="598680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4760" y="7256520"/>
            <a:ext cx="598680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391760" y="17440560"/>
            <a:ext cx="598680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7678440" y="17440560"/>
            <a:ext cx="598680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3964760" y="17440560"/>
            <a:ext cx="598680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91760" y="1544400"/>
            <a:ext cx="1859292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391760" y="7256520"/>
            <a:ext cx="18592920" cy="194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91760" y="1544400"/>
            <a:ext cx="1859292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391760" y="7256520"/>
            <a:ext cx="18592920" cy="194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91760" y="1544400"/>
            <a:ext cx="1859292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91760" y="7256520"/>
            <a:ext cx="9073080" cy="194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10918800" y="7256520"/>
            <a:ext cx="9073080" cy="194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1760" y="1544400"/>
            <a:ext cx="1859292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91760" y="1544400"/>
            <a:ext cx="18592920" cy="228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1760" y="1544400"/>
            <a:ext cx="1859292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1760" y="7256520"/>
            <a:ext cx="907308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0918800" y="7256520"/>
            <a:ext cx="9073080" cy="194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391760" y="17440560"/>
            <a:ext cx="907308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91760" y="1544400"/>
            <a:ext cx="1859292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91760" y="7256520"/>
            <a:ext cx="9073080" cy="194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0918800" y="7256520"/>
            <a:ext cx="907308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918800" y="17440560"/>
            <a:ext cx="907308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91760" y="1544400"/>
            <a:ext cx="1859292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91760" y="7256520"/>
            <a:ext cx="907308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0918800" y="7256520"/>
            <a:ext cx="907308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91760" y="17440560"/>
            <a:ext cx="18592920" cy="93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1760" y="1544400"/>
            <a:ext cx="18592920" cy="49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1760" y="7256520"/>
            <a:ext cx="18592920" cy="194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43040" indent="-743040">
              <a:spcBef>
                <a:spcPts val="1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1" marL="1616040" indent="-619200">
              <a:spcBef>
                <a:spcPts val="1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2" marL="2489040" indent="-493560">
              <a:spcBef>
                <a:spcPts val="1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3" marL="3487680" indent="-495360">
              <a:spcBef>
                <a:spcPts val="1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4" marL="4486320" indent="-495360">
              <a:spcBef>
                <a:spcPts val="1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5" marL="4486320" indent="-495360">
              <a:spcBef>
                <a:spcPts val="1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lvl="6" marL="4486320" indent="-495360">
              <a:spcBef>
                <a:spcPts val="1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restospace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6840" y="382320"/>
            <a:ext cx="13801680" cy="3546360"/>
          </a:xfrm>
          <a:prstGeom prst="rect">
            <a:avLst/>
          </a:prstGeom>
          <a:noFill/>
          <a:ln w="0">
            <a:noFill/>
          </a:ln>
        </p:spPr>
        <p:txBody>
          <a:bodyPr lIns="199440" rIns="199440" tIns="99720" bIns="9972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</a:tabLst>
            </a:pPr>
            <a:r>
              <a:rPr b="0" lang="pl-PL" sz="6000" spc="-1" strike="noStrike">
                <a:solidFill>
                  <a:srgbClr val="333399"/>
                </a:solidFill>
                <a:latin typeface="Arial"/>
              </a:rPr>
              <a:t>????</a:t>
            </a:r>
            <a:r>
              <a:rPr b="0" lang="en-GB" sz="6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6000"/>
            </a:br>
            <a:br>
              <a:rPr sz="4400"/>
            </a:br>
            <a:r>
              <a:rPr b="0" i="1" lang="en-GB" sz="4800" spc="-1" strike="noStrike">
                <a:solidFill>
                  <a:srgbClr val="333399"/>
                </a:solidFill>
                <a:latin typeface="Arial"/>
              </a:rPr>
              <a:t>PrestoSpace project</a:t>
            </a:r>
            <a:br>
              <a:rPr sz="4800"/>
            </a:b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restospace.org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pl-PL" sz="2800" spc="-1" strike="noStrike">
                <a:solidFill>
                  <a:srgbClr val="333399"/>
                </a:solidFill>
                <a:latin typeface="Arial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8" descr=""/>
          <p:cNvPicPr/>
          <p:nvPr/>
        </p:nvPicPr>
        <p:blipFill>
          <a:blip r:embed="rId2"/>
          <a:stretch/>
        </p:blipFill>
        <p:spPr>
          <a:xfrm>
            <a:off x="360360" y="27887760"/>
            <a:ext cx="3608280" cy="1807920"/>
          </a:xfrm>
          <a:prstGeom prst="rect">
            <a:avLst/>
          </a:prstGeom>
          <a:ln w="0">
            <a:noFill/>
          </a:ln>
        </p:spPr>
      </p:pic>
      <p:grpSp>
        <p:nvGrpSpPr>
          <p:cNvPr id="40" name="Group 4"/>
          <p:cNvGrpSpPr/>
          <p:nvPr/>
        </p:nvGrpSpPr>
        <p:grpSpPr>
          <a:xfrm>
            <a:off x="10899720" y="4460760"/>
            <a:ext cx="9626760" cy="10782360"/>
            <a:chOff x="10899720" y="4460760"/>
            <a:chExt cx="9626760" cy="10782360"/>
          </a:xfrm>
        </p:grpSpPr>
        <p:sp>
          <p:nvSpPr>
            <p:cNvPr id="41" name="AutoShape 5"/>
            <p:cNvSpPr/>
            <p:nvPr/>
          </p:nvSpPr>
          <p:spPr>
            <a:xfrm>
              <a:off x="10899720" y="4460760"/>
              <a:ext cx="9626760" cy="10782360"/>
            </a:xfrm>
            <a:custGeom>
              <a:avLst/>
              <a:gdLst>
                <a:gd name="textAreaLeft" fmla="*/ 360 w 9626760"/>
                <a:gd name="textAreaRight" fmla="*/ 9626400 w 9626760"/>
                <a:gd name="textAreaTop" fmla="*/ 360 h 10782360"/>
                <a:gd name="textAreaBottom" fmla="*/ 10782000 h 10782360"/>
              </a:gdLst>
              <a:ahLst/>
              <a:rect l="textAreaLeft" t="textAreaTop" r="textAreaRight" b="textAreaBottom"/>
              <a:pathLst>
                <a:path w="21600" h="24193">
                  <a:moveTo>
                    <a:pt x="3" y="0"/>
                  </a:moveTo>
                  <a:arcTo wR="3" hR="3" stAng="16200000" swAng="-5400000"/>
                  <a:lnTo>
                    <a:pt x="0" y="24190"/>
                  </a:lnTo>
                  <a:arcTo wR="3" hR="3" stAng="10800000" swAng="-5400000"/>
                  <a:lnTo>
                    <a:pt x="21597" y="24193"/>
                  </a:lnTo>
                  <a:arcTo wR="3" hR="3" stAng="5400000" swAng="-5400000"/>
                  <a:lnTo>
                    <a:pt x="21600" y="3"/>
                  </a:lnTo>
                  <a:arcTo wR="3" hR="3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Text Box 6"/>
            <p:cNvSpPr/>
            <p:nvPr/>
          </p:nvSpPr>
          <p:spPr>
            <a:xfrm>
              <a:off x="10899720" y="4460760"/>
              <a:ext cx="9626760" cy="64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9440" rIns="199440" tIns="99720" bIns="99720" anchor="t">
              <a:spAutoFit/>
            </a:bodyPr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r>
                <a:rPr b="0" lang="pl-PL" sz="4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Wower Plug-in</a:t>
              </a:r>
              <a:r>
                <a:rPr b="0" lang="en-GB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2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410760"/>
                  <a:tab algn="l" pos="10058400"/>
                </a:tabLst>
              </a:pP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" name="Group 432"/>
          <p:cNvGrpSpPr/>
          <p:nvPr/>
        </p:nvGrpSpPr>
        <p:grpSpPr>
          <a:xfrm>
            <a:off x="10775880" y="6664320"/>
            <a:ext cx="3769920" cy="4324680"/>
            <a:chOff x="10775880" y="6664320"/>
            <a:chExt cx="3769920" cy="4324680"/>
          </a:xfrm>
        </p:grpSpPr>
        <p:grpSp>
          <p:nvGrpSpPr>
            <p:cNvPr id="44" name="Group 430"/>
            <p:cNvGrpSpPr/>
            <p:nvPr/>
          </p:nvGrpSpPr>
          <p:grpSpPr>
            <a:xfrm>
              <a:off x="10982160" y="6664320"/>
              <a:ext cx="3563640" cy="3816360"/>
              <a:chOff x="10982160" y="6664320"/>
              <a:chExt cx="3563640" cy="3816360"/>
            </a:xfrm>
          </p:grpSpPr>
          <p:pic>
            <p:nvPicPr>
              <p:cNvPr id="45" name="Picture 409" descr=""/>
              <p:cNvPicPr/>
              <p:nvPr/>
            </p:nvPicPr>
            <p:blipFill>
              <a:blip r:embed="rId3"/>
              <a:srcRect l="0" t="13961" r="0" b="7447"/>
              <a:stretch/>
            </p:blipFill>
            <p:spPr>
              <a:xfrm>
                <a:off x="10982160" y="7210440"/>
                <a:ext cx="1989360" cy="32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AutoShape 410"/>
              <p:cNvSpPr/>
              <p:nvPr/>
            </p:nvSpPr>
            <p:spPr>
              <a:xfrm>
                <a:off x="13248000" y="6664320"/>
                <a:ext cx="1297800" cy="615960"/>
              </a:xfrm>
              <a:prstGeom prst="roundRect">
                <a:avLst>
                  <a:gd name="adj" fmla="val 43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990033"/>
                    </a:solidFill>
                    <a:latin typeface="Arial"/>
                  </a:rPr>
                  <a:t>Movie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990033"/>
                    </a:solidFill>
                    <a:latin typeface="Arial"/>
                  </a:rPr>
                  <a:t>soundtrack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Line 411"/>
              <p:cNvSpPr/>
              <p:nvPr/>
            </p:nvSpPr>
            <p:spPr>
              <a:xfrm flipH="1">
                <a:off x="12123720" y="6961320"/>
                <a:ext cx="1225440" cy="1036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" name="AutoShape 414"/>
            <p:cNvSpPr/>
            <p:nvPr/>
          </p:nvSpPr>
          <p:spPr>
            <a:xfrm>
              <a:off x="10775880" y="10477440"/>
              <a:ext cx="2349720" cy="511560"/>
            </a:xfrm>
            <a:prstGeom prst="roundRect">
              <a:avLst>
                <a:gd name="adj" fmla="val 59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tical tape with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oundtrack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" name="Group 431"/>
          <p:cNvGrpSpPr/>
          <p:nvPr/>
        </p:nvGrpSpPr>
        <p:grpSpPr>
          <a:xfrm>
            <a:off x="12979440" y="6800760"/>
            <a:ext cx="7267680" cy="4273200"/>
            <a:chOff x="12979440" y="6800760"/>
            <a:chExt cx="7267680" cy="4273200"/>
          </a:xfrm>
        </p:grpSpPr>
        <p:pic>
          <p:nvPicPr>
            <p:cNvPr id="50" name="Picture 422" descr=""/>
            <p:cNvPicPr/>
            <p:nvPr/>
          </p:nvPicPr>
          <p:blipFill>
            <a:blip r:embed="rId4"/>
            <a:stretch/>
          </p:blipFill>
          <p:spPr>
            <a:xfrm>
              <a:off x="14758920" y="6800760"/>
              <a:ext cx="5450040" cy="39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AutoShape 417"/>
            <p:cNvSpPr/>
            <p:nvPr/>
          </p:nvSpPr>
          <p:spPr>
            <a:xfrm>
              <a:off x="14725800" y="10818720"/>
              <a:ext cx="5521320" cy="255240"/>
            </a:xfrm>
            <a:prstGeom prst="roundRect">
              <a:avLst>
                <a:gd name="adj" fmla="val 29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Wow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plug-in 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AutoShape 420"/>
            <p:cNvSpPr/>
            <p:nvPr/>
          </p:nvSpPr>
          <p:spPr>
            <a:xfrm>
              <a:off x="13095720" y="8300880"/>
              <a:ext cx="1605600" cy="61596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990033"/>
                  </a:solidFill>
                  <a:latin typeface="Arial"/>
                </a:rPr>
                <a:t>Wow &amp; flutter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990033"/>
                  </a:solidFill>
                  <a:latin typeface="Arial"/>
                </a:rPr>
                <a:t>characteristic,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421"/>
            <p:cNvSpPr/>
            <p:nvPr/>
          </p:nvSpPr>
          <p:spPr>
            <a:xfrm flipV="1">
              <a:off x="14324040" y="7476840"/>
              <a:ext cx="1216080" cy="3222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AutoShape 423"/>
            <p:cNvSpPr/>
            <p:nvPr/>
          </p:nvSpPr>
          <p:spPr>
            <a:xfrm>
              <a:off x="13053960" y="9085320"/>
              <a:ext cx="1660680" cy="61596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  <a:ea typeface="Times New Roman"/>
                </a:rPr>
                <a:t>determination algorithms</a:t>
              </a:r>
              <a:r>
                <a:rPr b="0" lang="pl-PL" sz="1800" spc="-1" strike="noStrike">
                  <a:solidFill>
                    <a:srgbClr val="990033"/>
                  </a:solidFill>
                  <a:latin typeface="Arial"/>
                </a:rPr>
                <a:t>,</a:t>
              </a:r>
              <a:r>
                <a:rPr b="0" lang="en-GB" sz="18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Line 424"/>
            <p:cNvSpPr/>
            <p:nvPr/>
          </p:nvSpPr>
          <p:spPr>
            <a:xfrm>
              <a:off x="14457240" y="9442440"/>
              <a:ext cx="1155960" cy="157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AutoShape 425"/>
            <p:cNvSpPr/>
            <p:nvPr/>
          </p:nvSpPr>
          <p:spPr>
            <a:xfrm>
              <a:off x="13014360" y="7534440"/>
              <a:ext cx="1708200" cy="61596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  <a:ea typeface="Times New Roman"/>
                </a:rPr>
                <a:t>Audio spectrogram</a:t>
              </a:r>
              <a:r>
                <a:rPr b="0" lang="en-GB" sz="18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Line 426"/>
            <p:cNvSpPr/>
            <p:nvPr/>
          </p:nvSpPr>
          <p:spPr>
            <a:xfrm flipV="1">
              <a:off x="14563800" y="7978680"/>
              <a:ext cx="1722240" cy="63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AutoShape 427"/>
            <p:cNvSpPr/>
            <p:nvPr/>
          </p:nvSpPr>
          <p:spPr>
            <a:xfrm>
              <a:off x="12979440" y="9921960"/>
              <a:ext cx="1660320" cy="35496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990033"/>
                  </a:solidFill>
                  <a:latin typeface="Arial"/>
                </a:rPr>
                <a:t>reduction.</a:t>
              </a:r>
              <a:r>
                <a:rPr b="0" lang="en-GB" sz="18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Line 428"/>
            <p:cNvSpPr/>
            <p:nvPr/>
          </p:nvSpPr>
          <p:spPr>
            <a:xfrm>
              <a:off x="14357520" y="10126800"/>
              <a:ext cx="1774800" cy="385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AutoShape 88"/>
          <p:cNvSpPr/>
          <p:nvPr/>
        </p:nvSpPr>
        <p:spPr>
          <a:xfrm>
            <a:off x="12992040" y="5370480"/>
            <a:ext cx="7256520" cy="1276920"/>
          </a:xfrm>
          <a:prstGeom prst="roundRect">
            <a:avLst>
              <a:gd name="adj" fmla="val 29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 audio material can be contaminated by several distortions leading to sound quality deterioration. Among many distor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ow and flu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common and difficult to compensate. They could be found in Edison phonographs, gramophone recordings, magnetic and optical tapes including films where the audio is placed next to the perfor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AutoShape 89"/>
          <p:cNvSpPr/>
          <p:nvPr/>
        </p:nvSpPr>
        <p:spPr>
          <a:xfrm>
            <a:off x="10902960" y="11187000"/>
            <a:ext cx="9178920" cy="1022760"/>
          </a:xfrm>
          <a:prstGeom prst="roundRect">
            <a:avLst>
              <a:gd name="adj" fmla="val 59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W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lug-in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developed by th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dansk University of Technolog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ow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restore recordings with wow and flutter. The plug-in comes with several method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distortions’ characteristic determination and the non-uniform resampler for the final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w redu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29" descr="logoKIDOsm"/>
          <p:cNvPicPr/>
          <p:nvPr/>
        </p:nvPicPr>
        <p:blipFill>
          <a:blip r:embed="rId5"/>
          <a:stretch/>
        </p:blipFill>
        <p:spPr>
          <a:xfrm>
            <a:off x="11015640" y="4371840"/>
            <a:ext cx="1808280" cy="2533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3" name="Picture 435" descr="logoKIDOsm"/>
          <p:cNvPicPr/>
          <p:nvPr/>
        </p:nvPicPr>
        <p:blipFill>
          <a:blip r:embed="rId6"/>
          <a:stretch/>
        </p:blipFill>
        <p:spPr>
          <a:xfrm>
            <a:off x="19073880" y="27524160"/>
            <a:ext cx="1724040" cy="24159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zemek Maziewski</cp:lastModifiedBy>
  <dcterms:modified xsi:type="dcterms:W3CDTF">2008-02-19T12:47:41Z</dcterms:modified>
  <cp:revision>36</cp:revision>
  <dc:subject/>
  <dc:title>              Contactless 78rpm Disk Player   Louis Laborelli (llaborelli@ina.fr)</dc:title>
</cp:coreProperties>
</file>