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B1A4-E72F-4C6E-ADB9-95F5AE34EB6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8929-D052-4D91-8881-52E3C795D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2F68-0130-4735-9F21-45DA5869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1398-5857-47A4-926D-D95EC7CEF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A930-F2AA-4B60-B0EA-726D55663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7B40-5F04-4383-8440-26D4B883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B32C-0802-47E7-8F7B-16401012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2C76-CDE3-4920-B360-82FBFEDC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0BAB-2B6F-4EFF-8174-0815298C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5246-EE51-4BA0-9D4C-BC8D9821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823D-131F-4844-9575-BD748BCA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D59A-96D6-47AB-B454-FADC285F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07C6-CC69-46B5-B534-C2E2D5B0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BD89-3455-471E-982C-31739782B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kanowanie ścieżki dźwiękowej</a:t>
            </a:r>
            <a:br>
              <a:rPr sz="36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zykłady filmow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47640" y="249084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48320" y="2523960"/>
            <a:ext cx="4038480" cy="2676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308720" y="189000"/>
            <a:ext cx="1656000" cy="672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08000" y="5950080"/>
            <a:ext cx="1117440" cy="742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4000" y="1628640"/>
            <a:ext cx="52084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fesor Groszkowski” (1975)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6000" y="1628640"/>
            <a:ext cx="54961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pomniana Melodia” (1938)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Redukcja kołysania dźwięku</a:t>
            </a:r>
            <a:br>
              <a:rPr sz="3600"/>
            </a:b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przykład dźwiękowy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7640" y="6208560"/>
            <a:ext cx="52088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plikacja Flash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Łukasz Kosikowski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97200" y="182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63880" y="20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9560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22800" y="275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ShockwaveFlash1"/>
          <p:cNvGraphicFramePr/>
          <p:nvPr/>
        </p:nvGraphicFramePr>
        <p:xfrm>
          <a:off x="1403280" y="1484280"/>
          <a:ext cx="6589800" cy="474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484280"/>
                    <a:ext cx="6589800" cy="4748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7308720" y="189000"/>
            <a:ext cx="1656000" cy="672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08000" y="5950080"/>
            <a:ext cx="111744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horzenia neurologiczne</a:t>
            </a:r>
            <a:br>
              <a:rPr sz="36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nitorowanie, skuteczna diagno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Choroba Parkins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ojekt Perfo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ciągły monitor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ecyzyjna, indywidualna diagno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716360" y="1484280"/>
            <a:ext cx="1490760" cy="1800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08000" y="3645000"/>
            <a:ext cx="1333440" cy="2133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523880" y="4076640"/>
            <a:ext cx="1752840" cy="1494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059280" y="3645000"/>
            <a:ext cx="3489120" cy="2933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6300720" y="3716280"/>
            <a:ext cx="1295640" cy="16225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7615080" y="4149720"/>
            <a:ext cx="1349640" cy="1287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71280" y="6039000"/>
            <a:ext cx="900360" cy="774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8"/>
          <a:stretch/>
        </p:blipFill>
        <p:spPr>
          <a:xfrm>
            <a:off x="7489800" y="44280"/>
            <a:ext cx="16192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500"/>
                            </p:stCondLst>
                            <p:childTnLst>
                              <p:par>
                                <p:cTn id="5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7000"/>
                            </p:stCondLst>
                            <p:childTnLst>
                              <p:par>
                                <p:cTn id="60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08:42:21Z</dcterms:created>
  <dc:creator>ACER</dc:creator>
  <dc:description/>
  <dc:language>en-US</dc:language>
  <cp:lastModifiedBy>ACER</cp:lastModifiedBy>
  <dcterms:modified xsi:type="dcterms:W3CDTF">2007-11-12T11:04:18Z</dcterms:modified>
  <cp:revision>15</cp:revision>
  <dc:subject/>
  <dc:title>Slajd 1</dc:title>
</cp:coreProperties>
</file>