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267-EEC6-4D7C-B365-5F06D990BE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09A-0B25-4CC2-B99F-CA67602F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CA9-54C6-42DB-B3FD-C25A42F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80B-31BD-436D-8872-6AD8E6EC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823-3D09-47DD-877A-BE4EECEB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394-A013-48F7-ACBC-578E4F9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462-81A3-4329-806F-3E2B73DB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F9B-5CB5-46E6-AE7C-BF5ED4A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278-C91B-49A2-AFE6-FEEEB1C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BAE-9C11-4C87-B85D-E8F706B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E90-EC98-4EA3-8747-1A27179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7CA-A08F-47E7-AD54-6A73A14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49F-8DEA-4241-911A-DCA8E11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128A-7564-4625-96EE-CFE0AEAC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anowanie ścieżki dźwiękowej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zykłady film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640" y="2490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67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8000" y="5950080"/>
            <a:ext cx="1117440" cy="74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628640"/>
            <a:ext cx="520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esor Groszkowski” (1975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628640"/>
            <a:ext cx="549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mniana Melodia” (1938)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Redukcja kołysania dźwięku</a:t>
            </a:r>
            <a:br>
              <a:rPr sz="36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przykład dźwiękowy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7640" y="6208560"/>
            <a:ext cx="5208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plikacja Flas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Łukasz Kosikowsk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97200" y="18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6388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56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280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ShockwaveFlash1"/>
          <p:cNvGraphicFramePr/>
          <p:nvPr/>
        </p:nvGraphicFramePr>
        <p:xfrm>
          <a:off x="1403280" y="1484280"/>
          <a:ext cx="6589800" cy="47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84280"/>
                    <a:ext cx="6589800" cy="4748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67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8000" y="5950080"/>
            <a:ext cx="11174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rzenia neurologiczne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owanie, skuteczna diagn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horoba Parkin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jekt Per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iągły monito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ecyzyjna, indywidualna diagn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1490760" cy="180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8000" y="3645000"/>
            <a:ext cx="1333440" cy="213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4076640"/>
            <a:ext cx="1752840" cy="149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645000"/>
            <a:ext cx="3489120" cy="2933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1295640" cy="162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615080" y="4149720"/>
            <a:ext cx="1349640" cy="128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1280" y="6039000"/>
            <a:ext cx="900360" cy="77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489800" y="44280"/>
            <a:ext cx="1619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8:42:21Z</dcterms:created>
  <dc:creator>ACER</dc:creator>
  <dc:description/>
  <dc:language>en-US</dc:language>
  <cp:lastModifiedBy>ACER</cp:lastModifiedBy>
  <dcterms:modified xsi:type="dcterms:W3CDTF">2007-11-12T11:04:18Z</dcterms:modified>
  <cp:revision>15</cp:revision>
  <dc:subject/>
  <dc:title>Slajd 1</dc:title>
</cp:coreProperties>
</file>